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4441-9024-423C-934D-7B1200F42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8FC6-851A-4335-B21A-3F67A75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C961FC-098C-486C-8E1D-37F62C4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9A293-A6C9-412D-9679-7D1F1D05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BDEC4-F04D-4152-87EB-CA0107D8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554AB-52FC-488D-A23E-90061022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DE045-7D43-42F6-8462-CF74B37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6F802-9FB4-4BEE-97D5-E7A9CD0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0D8A1-8896-4B97-B32F-5E243EF2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115FB5-86CA-4717-9545-2CF99AC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84096-3A80-4E7E-971D-F316F63FD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9CA8D-C0E5-46F4-9957-BE841E609D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94F1-99EB-408C-9922-E4030ECB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58D9-F086-4058-A21A-3743902C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63ED-BEDA-4711-BE38-7DBE9CF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51BF-546C-4BA4-B680-8DA7ED7E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3B40B-8C5D-4AAF-88FC-7FAE2114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73623-9B39-4010-9D49-61A90919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6664-0C65-4832-BA78-D6CABBB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97462-79F6-497E-A22A-85FFA3A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29BB-30E2-4429-AE3A-934DF6A0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C3270-59E0-4061-91AC-6A248A8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2802-D4FC-45E6-A42C-48DB88A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FBD1-33E1-4504-A266-8B9D01163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5BED-6193-4915-86C5-89F0215C6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A27156-8418-4C01-BD3F-9C6EC92FC1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F181D4-B67F-44D1-B5FE-DBE95539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0F368-F51E-4FDD-9C6B-C27F32C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976A9-648A-4E77-9A29-065E32E0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C64F8C-6FE2-4E73-9B10-1EC1BAA1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8E01F-C4E7-4112-8519-82314D22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DA693-C18E-42E7-A3E3-DD7B96F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74C04-23FC-4A15-AA19-E13EAB5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DA7F6-FCCA-4B3F-8E7A-603A842C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4C695-875F-4A43-9F98-5AE19007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AA959-F860-4E5D-A8BE-82DBB74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C754D-5648-4FB9-A760-388E648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41175-BDAA-4D38-89B4-F07AE41FB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CF9F4-F7D3-465D-AADE-5D6BBF89D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0BB12-4654-423F-A255-E7A1A90B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C8260-6C18-406C-9A4F-07E03B59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CC327-A325-4ABC-8E48-258C4315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88E80-F2D9-44EC-BF32-D4084B1E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854A1-1822-4431-90E8-07ED17AF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A0075-E6C2-45DA-9C2B-37432C7A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623F7-404F-4C03-A940-2E7F74D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683B7-E216-457F-B260-5B1D9E18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C7630-A162-4474-A366-A1F1EEA1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38F43-23AB-4554-9001-EE7E6298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7C52B-3C47-4E34-97D6-5C29DC7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180EE-79FA-4CE5-89AD-4F09EB9718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58815-75EE-40FE-9F07-13DEA4FE6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8B2A-AF1D-4BEF-B477-629A1FE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33198-E8D4-4780-916A-F0623FC7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21976-9649-4622-9439-72DA7095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F507E-A288-47A0-B86E-3082EE9C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09056-89C8-44B2-91AF-CEAC849D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FBC3D-782C-4434-8FAA-410BF2BF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C4B0-C6BF-468A-99FC-50A0FF28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E4A57-F3AA-48DB-A27F-C62543AC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7E9C2-FAAD-4612-94DC-CF6E10E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5A676-12CE-44B3-AFC2-3D7C4DC2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28D3B-79A4-436F-BF2A-F2627BA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FA37-6F12-4C9D-B65B-55EC643FB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AFBA-725B-4157-A062-C38361B4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12CA0-E61C-408B-964C-193BC07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D1C4C-02E3-4A9E-BD75-6670B982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B5AFD-2BC1-499C-9CC2-CC2A2B25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FD48A-C698-4252-B3D8-B01DDAE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6A4E-1CE4-4722-AC56-947D6994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961CD-72E3-4A85-820F-E08AB24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2F3EF-1F01-4A63-A2B0-44C733F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0AC92-B4B7-49B9-9CBB-ECDE097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1A26D-595B-482F-931B-6DCB992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86E11-7F59-4518-8C63-E7A71EA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FD2CB-EC20-4232-AE95-9103047D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CF3B4-C8B0-4CCF-A015-492E9D28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945C-FBAD-465D-AC6B-E9B674FC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2ECA7-FBA4-47B3-BF94-B92D686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6AB1-99AB-4572-A0B6-94F9DF7B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7E4B-8436-4D1F-9F1F-9AFC993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B7E22-F6BC-44E9-AB22-3CEDC21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B28D4-156E-4203-BF8F-25A01A8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A53E7-04E6-4D3D-9E91-3F2D67C8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AA0D4-6FA9-493C-9A40-64229A23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95416-1885-4CB2-BD09-982FF75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79896-0FA0-4A72-BB67-069ACAD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5BAB-46BE-4D53-BA92-9F3A56E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4A086-7FD7-4445-A2EC-ADEC0B92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E407B-ED19-43E2-A8CC-FC5940E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602FA-4D5B-4AAA-8FEF-63E8239B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DA5E2-2A47-45F2-A58B-F9474D5F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562FE-3108-4065-BA76-0F56BC97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1BF86-D53F-450B-8423-7652CEF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F2DB7-6BC8-45D3-84E8-3E58B4C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BE087-634A-41DD-9CB5-36B63208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D579-0930-4D25-AFA3-14FACC0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6E9B5-1C0C-4341-BA28-C72937E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0D2B5-63C0-4CE6-8AE8-9333D51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34D28-D68F-4780-AD29-A6A9623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3F36-CD65-402D-8DF1-3B2AB80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538F4-6E30-4184-B950-2D77D1A7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607F1-81CD-4D1A-9802-06930921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D619E-E053-4B09-BB26-CC35D800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86328-6E2B-4FA4-A931-0AED082F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E2ABC-BD0D-4B09-B50F-B3F4AFB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936BC-E27C-48A3-AE10-7BD9297F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18B80-BC8A-49D6-8F03-85E8D4A6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CE0DA-65BA-4E05-81C3-25B62F2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8AEA3-1ED8-47D7-87BC-03343EDB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106A6-F2A8-4031-A263-4D1BA265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455C-7750-4109-A1D6-28A8267E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FCD20-9259-45CD-A4AA-EE312C0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BDD6B-89F9-45DD-8935-51ED8B66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F9EA2-29BC-438E-A28F-2308BEC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B0796-1CF3-4074-9E79-382CEF20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BA0F3-21C2-468D-AD59-C3BBD92E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EFDB2-F644-4333-A753-332B0213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0E083-02E1-4535-9E3B-AA88C931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7A9B4-A78B-45A4-AFB6-94DB123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C000A-B897-459D-9E77-E99A3AD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795FB-90BF-43EB-B5F2-F4D7C117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7BFA2-1560-4C25-AF9C-3AA5C0F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E65D1-2721-4AB7-90A7-15DDA3F9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15585-5ED5-4CCE-B3F3-01D6B42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651E8-05AD-42F7-930F-CF38465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5541B-754E-453A-B36F-D4FA7B7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CCB95-0580-41BC-B18D-43C63E9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E4E00-3C25-45E7-8915-150CB663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5A0FD-6313-4B0A-803F-C82F5B05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141C0-5AFA-4C9B-84B2-B9B86FC6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07B31-DB15-4BA9-85D8-1D564B60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70788-5A63-4C07-8321-278118B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5EBE5-7F6C-4388-AE58-ECAB9AC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11F93-2818-4F65-97E8-7EE72417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00B47-6B57-4401-9A31-0DBABB2D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FB308-3DBB-485B-94BE-E4B4F7D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EF562-D774-4383-A9A0-A0192CF4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0A932-25E8-49DB-B10A-215E5267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527AE-57C3-4FFC-8EA4-681FB7B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A969C-1CF6-41FD-B98F-7A3AB05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C47CD-80E7-4DA2-8A31-090C64B1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3194F-4BFD-4F7E-B760-4C5D9D53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E9087-98EF-44B9-88C7-4665FEE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A9692-9DBA-4621-A87B-9950BC9A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E0174-1F17-4724-8D5F-F5E5B643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A049B-C617-4742-9AAE-BB59BDE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37089-0840-4FCA-8B13-3EE1A97C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B2DA7-499F-486E-84DF-9101E0F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75B32-0B66-4909-87B0-535E927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A8625-6CC3-4D27-AF24-2FD0468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5A74A-2733-45AB-A988-6BD9E32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B3F89-4B1F-446A-8B01-B58787E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237B5-0D3F-4E25-A6A0-951112E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049ED-08C6-45AA-A323-B4BDB6D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CE3CB-09AE-4BAE-B1B0-524F1605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2C6F4-9C93-422B-9616-359D48CA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650F5-0C40-4775-9E45-1520F7D3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35634-9F93-4997-8200-C249FDEC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7ED0B-113E-487C-902F-6E979C0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5CCF1-836A-4C3B-BDF8-2CBCFD10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FD17F-0726-4A11-BA69-C4533934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4B7D7-66DE-47AC-9161-7709B2CE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0748D-1B46-411D-AAAB-9813E659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9799D-5645-4852-BCA6-163F0276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3E003-D059-4CC4-BAAF-DC380C98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48350-6C2F-4833-AB3D-F532ED3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3F76B-64BF-490F-B42F-8C8C1730B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C1B3A-08B4-4454-8D12-22C38C34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B6D1F-F09D-4C19-ADDA-D412231F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1F196-3AC5-43ED-AD91-76708C9B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0FB62-4DE4-4648-AFDB-F7E62713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3184A-633D-4589-B7A4-F77DB51F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A645D-EA85-4830-8BBB-23EE701D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868DF-5BF7-4600-A3C8-9037F1C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34F7A-DAA4-44F2-8512-DE66A26B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B3622-F4FC-4225-82F8-76EC8B23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16A0F-D3FD-41CB-9B99-639CB1E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A5B10-3B84-4E2D-9061-26DB5F62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BCC5F-CE0E-4267-A1F2-088E536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711C0-A5D8-47BD-82AC-41D2D084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5CBDF-988B-4924-8302-E779B07A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6C23D-A328-4432-9CA2-F66AEEAC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162E3-C832-483E-9200-90802CBF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26ADD-9218-45EC-A788-B91A83F1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EB5C0-B631-4CEE-90F8-332707DB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4477E-A3EC-4B2B-8218-A58DAF09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F5414B-D87F-4512-829C-2FA8CFE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3D326-E900-4342-93A7-2A2C5399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27C1D-177A-46B0-9FFC-D6DDA389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374EC-7A5F-4ABB-AC75-A9D9215D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49C01-8EF9-42FA-883C-D5B5D54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ED269-199B-423A-BB5F-AC64CF2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8D2D0-FDCA-4350-A017-89C0CDE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88C9C-9548-4C29-B6EB-A81EC34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7D376-6A25-4310-B55D-C00905D4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EF855-8A71-45FD-828E-D79F205E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E3B7B-6A5F-4F1E-A220-53260DEF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6DE7E-819A-48E7-91CC-6B3433F6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0245E-2B44-475E-A0A1-AF435EDC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34A5B-EEC7-4E58-82B4-9B9FC0E0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2A0B4-1173-494D-B9BB-F5EE53AB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88741-41BD-4FFB-98A5-DC2ACD36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A0896-5BBF-44F7-A6EC-D155E973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B2D0A-954F-473B-8183-55008953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04D8B-EC37-4FF5-92D2-827BC1D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FC7BF-F414-4EBF-BC50-1136A23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0C924-33B2-43C8-AFE2-B16ACFD6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7A835-2FC1-4B0D-BDFB-C553DA18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04E4D-CDDF-4418-9CCC-BFF70D2A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9E2B1-C755-4026-95D9-F208EAB3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B07B-4607-49CF-AD8C-DC301D17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62AA4-18AD-45B5-B73D-843F9804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34D52-95DB-46AF-83CD-67A0BF2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9706A-3585-4DF0-A893-DCFDE7AB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D7B7A-F6E0-46D3-A3DF-FD811F0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42B8E-DC3C-4C51-86FB-A278BEC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4B999-3CF0-41FA-8B4B-F3A4581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E7C5D-3780-4B23-9CDD-D8153AF67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25BA-ED52-4E26-B83C-CB01E2378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9F30-1A05-4E71-B61D-B476ED1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305B-87FF-4E89-B15F-90BD2F26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4C5B-7BD7-4B9F-A2F3-A9376AD6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3884-16C3-4A71-B291-220A4F0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11FE-75BE-4DF7-8218-2DEA0297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AF86-87D2-4344-9608-A2BBBD87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D81B-A71B-4E4B-B8B7-BE908301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F439-6FE9-402A-875B-2F9844DD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73D0-F9E4-4763-B487-67C1192F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903B-A685-4733-94B0-C34EC58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1B16-6074-44DD-A52F-88D2F01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9662-ED89-4E66-9E8E-82F4BC879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563C9-D571-4B25-B114-AA03E6ED1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5960-CC50-4810-B3F9-27382A8E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D9F66B-428E-4C8D-9406-6E2575D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65311-856C-4266-9878-D24359FA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49593-4141-4570-90CE-C9B68E0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A8E03-557D-4624-AABC-1EC0BB61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6697E-CF37-492B-A5B0-2188B8DC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775F3-C28D-4F48-B742-37A6098D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AD668-ECD2-4F09-A3C9-D4F5EDF0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F6875-C63E-467D-B52E-285694F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F11AD-3740-40B6-8F36-909CD84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566F6-8C9B-4128-A466-F9A23F4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4189-DBDA-40F3-9644-4E3D8A9F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D8FD4-5135-42C8-8B14-01F6B3768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8250A-A41D-4A82-8858-BE4F032A0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02B8D-F897-44FA-B2A8-4CCB446E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7CD01-8C2E-4730-AADF-E9AC34F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FF2348-5C96-4AD0-A6C6-5E59B7B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265D4-DDA0-4C13-BFE4-9B2D3AB5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B98D3F-8262-4A2C-959A-D2E8292A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9922F-8AF2-4E85-AD96-87A6E5AF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9D25E-4833-4AA1-BDD0-59E3960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31232-E727-4302-9144-7B7E30F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40A0-6FA0-4258-8EC7-AE9B59D8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09407-B89B-4954-B135-98AD646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52F58-AE4D-452B-B4D6-A96A954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7204C8-58A0-4ED3-BA3B-22271F308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76735-A1B6-4184-B6D4-A4A0780CF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A149-9A58-4082-9A6D-CACF371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4DAF-77F1-4BAC-83F8-A39B5BC5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B7B8-662D-4498-91DA-5A3B2A4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5617-8A82-4C4E-9304-296FF4B4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0D64-D9DD-441D-900B-44C81800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BBC0-5420-416B-B6E4-44D456F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14F7-6562-4419-A191-6361F4DE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EF7B-EA83-42BE-A42A-6A5DEC8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2B57-7A84-46F7-B89C-0C8E41A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05E5-444B-4E06-9023-5966C42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C08E-1B1F-420D-8E69-5FAF0AC3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0F2A-09A9-4C55-AF3E-73250AE47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52988-B4E6-49A8-92DC-5872E78DF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A5459-6AF4-4E6D-8E0E-99EF6DF4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C44B7-688A-4DF8-864D-FBD2ABD8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7C2CC-7A3D-4D6F-9A23-8FF42E9B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CBB12-7AFE-4A5B-AB6B-A40351F7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48D1-E7DF-4FF8-A41D-765B32B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C52C5-44AB-4667-BE8E-C1C34027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48154-37DA-45B6-AB02-D6102362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6CF33-9B69-4FB8-8CA8-1BF28C32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C681B-1FB1-426D-A23D-7BC86FF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8F8F7-3D9A-40CE-B411-652D40EB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C0EB5-EB02-4A28-90C6-3165B07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A808B-5542-49D0-B0F1-2A3350CF6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265281-6A26-4DEA-B07F-2D0BE3D3D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B25065-5F31-477E-8925-91EA543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ACA75-F8BD-4E02-A2E3-43CA82DC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880-E935-49F6-B624-FCA0BD2040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561-E320-4291-9AE9-06E9D33D6E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81C-A325-4778-8E75-286C4A59A0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13C7-10FF-4DEA-8CF2-23803E66EC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D5D-B063-4281-82C4-7B48A98540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B9C-5A79-438E-9F7B-BE7DC16620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0369-6955-4C65-86E3-65A04E2ACF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18B2-7ACF-45DB-AB89-5DF11EADCF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577-335A-410D-A56C-B7C76AA925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FA27-2212-4DF4-B75E-7F48EC59E2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5A95-0D22-4E60-ACB9-9E788D7B57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A972-804B-4FC3-91FF-37DDBA4278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F2F-70D0-40B9-994F-0E3AC9D4CB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AE88-46FA-4A99-9FF4-80ED93573C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E9A2-FD28-4048-81C6-F5D6DBA75C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F7E-0219-4FF7-B514-5260F3DEDF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33B-7402-460E-8437-6DEB5992B2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51E-1CD1-45D9-B74F-02B6C1DDB1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E039-B1C3-4861-8745-DC9866758E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42F-561A-4513-95AE-99D6EF1BBF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46BB-46F4-4D01-A478-9800BCC7E6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C89-F955-47E1-930C-8223B8FA9A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956A-DE90-4458-AD01-9E9BA9CFD5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B155-907F-4559-89DE-45A47A872C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94328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425600" y="2666880"/>
            <a:ext cx="66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数 的 简 单 应 用 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28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7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288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2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6" name="文本框 100"/>
          <p:cNvSpPr/>
          <p:nvPr/>
        </p:nvSpPr>
        <p:spPr>
          <a:xfrm>
            <a:off x="316080" y="7952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看图写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Picture 229" descr=""/>
          <p:cNvPicPr/>
          <p:nvPr/>
        </p:nvPicPr>
        <p:blipFill>
          <a:blip r:embed="rId8"/>
          <a:stretch/>
        </p:blipFill>
        <p:spPr>
          <a:xfrm>
            <a:off x="1117440" y="1906560"/>
            <a:ext cx="2668680" cy="110664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272" descr=""/>
          <p:cNvPicPr/>
          <p:nvPr/>
        </p:nvPicPr>
        <p:blipFill>
          <a:blip r:embed="rId9"/>
          <a:stretch/>
        </p:blipFill>
        <p:spPr>
          <a:xfrm>
            <a:off x="5465880" y="1984320"/>
            <a:ext cx="2755800" cy="1106640"/>
          </a:xfrm>
          <a:prstGeom prst="rect">
            <a:avLst/>
          </a:prstGeom>
          <a:ln w="0">
            <a:noFill/>
          </a:ln>
        </p:spPr>
      </p:pic>
      <p:sp>
        <p:nvSpPr>
          <p:cNvPr id="1299" name="文本框 12"/>
          <p:cNvSpPr/>
          <p:nvPr/>
        </p:nvSpPr>
        <p:spPr>
          <a:xfrm>
            <a:off x="387360" y="3705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　　）＋（　　）＝（　　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13"/>
          <p:cNvSpPr/>
          <p:nvPr/>
        </p:nvSpPr>
        <p:spPr>
          <a:xfrm>
            <a:off x="4867200" y="3705120"/>
            <a:ext cx="43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　　）－（　　）＝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32"/>
          <p:cNvGrpSpPr/>
          <p:nvPr/>
        </p:nvGrpSpPr>
        <p:grpSpPr>
          <a:xfrm>
            <a:off x="784080" y="3370320"/>
            <a:ext cx="623880" cy="820440"/>
            <a:chOff x="784080" y="3370320"/>
            <a:chExt cx="623880" cy="820440"/>
          </a:xfrm>
        </p:grpSpPr>
        <p:sp>
          <p:nvSpPr>
            <p:cNvPr id="1302" name="Text Box 54"/>
            <p:cNvSpPr/>
            <p:nvPr/>
          </p:nvSpPr>
          <p:spPr>
            <a:xfrm>
              <a:off x="784080" y="3370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55"/>
            <p:cNvSpPr/>
            <p:nvPr/>
          </p:nvSpPr>
          <p:spPr>
            <a:xfrm>
              <a:off x="784080" y="38224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956880" y="3837240"/>
              <a:ext cx="276840" cy="360"/>
              <a:chOff x="956880" y="3837240"/>
              <a:chExt cx="276840" cy="360"/>
            </a:xfrm>
          </p:grpSpPr>
          <p:sp>
            <p:nvSpPr>
              <p:cNvPr id="1305" name="Line 56"/>
              <p:cNvSpPr/>
              <p:nvPr/>
            </p:nvSpPr>
            <p:spPr>
              <a:xfrm>
                <a:off x="956880" y="383724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 txBox="1"/>
              <p:nvPr/>
            </p:nvSpPr>
            <p:spPr>
              <a:xfrm>
                <a:off x="956880" y="38372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组合 32"/>
          <p:cNvGrpSpPr/>
          <p:nvPr/>
        </p:nvGrpSpPr>
        <p:grpSpPr>
          <a:xfrm>
            <a:off x="2139840" y="3467160"/>
            <a:ext cx="623880" cy="804960"/>
            <a:chOff x="2139840" y="3467160"/>
            <a:chExt cx="623880" cy="804960"/>
          </a:xfrm>
        </p:grpSpPr>
        <p:sp>
          <p:nvSpPr>
            <p:cNvPr id="1308" name="Text Box 54"/>
            <p:cNvSpPr/>
            <p:nvPr/>
          </p:nvSpPr>
          <p:spPr>
            <a:xfrm>
              <a:off x="2139840" y="3467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55"/>
            <p:cNvSpPr/>
            <p:nvPr/>
          </p:nvSpPr>
          <p:spPr>
            <a:xfrm>
              <a:off x="2139840" y="3903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2312640" y="3933720"/>
              <a:ext cx="276840" cy="360"/>
              <a:chOff x="2312640" y="3933720"/>
              <a:chExt cx="276840" cy="360"/>
            </a:xfrm>
          </p:grpSpPr>
          <p:sp>
            <p:nvSpPr>
              <p:cNvPr id="1311" name="Line 56"/>
              <p:cNvSpPr/>
              <p:nvPr/>
            </p:nvSpPr>
            <p:spPr>
              <a:xfrm>
                <a:off x="2312640" y="393372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 txBox="1"/>
              <p:nvPr/>
            </p:nvSpPr>
            <p:spPr>
              <a:xfrm>
                <a:off x="2312640" y="3933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组合 32"/>
          <p:cNvGrpSpPr/>
          <p:nvPr/>
        </p:nvGrpSpPr>
        <p:grpSpPr>
          <a:xfrm>
            <a:off x="3929040" y="3471840"/>
            <a:ext cx="623880" cy="820440"/>
            <a:chOff x="3929040" y="3471840"/>
            <a:chExt cx="623880" cy="820440"/>
          </a:xfrm>
        </p:grpSpPr>
        <p:sp>
          <p:nvSpPr>
            <p:cNvPr id="1314" name="Text Box 54"/>
            <p:cNvSpPr/>
            <p:nvPr/>
          </p:nvSpPr>
          <p:spPr>
            <a:xfrm>
              <a:off x="3929040" y="3471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55"/>
            <p:cNvSpPr/>
            <p:nvPr/>
          </p:nvSpPr>
          <p:spPr>
            <a:xfrm>
              <a:off x="3929040" y="3924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101840" y="3938760"/>
              <a:ext cx="276840" cy="360"/>
              <a:chOff x="4101840" y="3938760"/>
              <a:chExt cx="276840" cy="360"/>
            </a:xfrm>
          </p:grpSpPr>
          <p:sp>
            <p:nvSpPr>
              <p:cNvPr id="1317" name="Line 56"/>
              <p:cNvSpPr/>
              <p:nvPr/>
            </p:nvSpPr>
            <p:spPr>
              <a:xfrm>
                <a:off x="4101840" y="39387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 txBox="1"/>
              <p:nvPr/>
            </p:nvSpPr>
            <p:spPr>
              <a:xfrm>
                <a:off x="4101840" y="39387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9" name="组合 32"/>
          <p:cNvGrpSpPr/>
          <p:nvPr/>
        </p:nvGrpSpPr>
        <p:grpSpPr>
          <a:xfrm>
            <a:off x="5273640" y="3467160"/>
            <a:ext cx="623880" cy="820440"/>
            <a:chOff x="5273640" y="3467160"/>
            <a:chExt cx="623880" cy="820440"/>
          </a:xfrm>
        </p:grpSpPr>
        <p:sp>
          <p:nvSpPr>
            <p:cNvPr id="1320" name="Text Box 54"/>
            <p:cNvSpPr/>
            <p:nvPr/>
          </p:nvSpPr>
          <p:spPr>
            <a:xfrm>
              <a:off x="5273640" y="3467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 Box 55"/>
            <p:cNvSpPr/>
            <p:nvPr/>
          </p:nvSpPr>
          <p:spPr>
            <a:xfrm>
              <a:off x="5273640" y="39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5446440" y="3934080"/>
              <a:ext cx="276840" cy="360"/>
              <a:chOff x="5446440" y="3934080"/>
              <a:chExt cx="276840" cy="360"/>
            </a:xfrm>
          </p:grpSpPr>
          <p:sp>
            <p:nvSpPr>
              <p:cNvPr id="1323" name="Line 56"/>
              <p:cNvSpPr/>
              <p:nvPr/>
            </p:nvSpPr>
            <p:spPr>
              <a:xfrm>
                <a:off x="5446440" y="393408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 txBox="1"/>
              <p:nvPr/>
            </p:nvSpPr>
            <p:spPr>
              <a:xfrm>
                <a:off x="5446440" y="39340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5" name="组合 32"/>
          <p:cNvGrpSpPr/>
          <p:nvPr/>
        </p:nvGrpSpPr>
        <p:grpSpPr>
          <a:xfrm>
            <a:off x="6802560" y="3467160"/>
            <a:ext cx="623880" cy="820440"/>
            <a:chOff x="6802560" y="3467160"/>
            <a:chExt cx="623880" cy="820440"/>
          </a:xfrm>
        </p:grpSpPr>
        <p:sp>
          <p:nvSpPr>
            <p:cNvPr id="1326" name="Text Box 54"/>
            <p:cNvSpPr/>
            <p:nvPr/>
          </p:nvSpPr>
          <p:spPr>
            <a:xfrm>
              <a:off x="6802560" y="3467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55"/>
            <p:cNvSpPr/>
            <p:nvPr/>
          </p:nvSpPr>
          <p:spPr>
            <a:xfrm>
              <a:off x="6802560" y="39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975360" y="3934080"/>
              <a:ext cx="276840" cy="360"/>
              <a:chOff x="6975360" y="3934080"/>
              <a:chExt cx="276840" cy="360"/>
            </a:xfrm>
          </p:grpSpPr>
          <p:sp>
            <p:nvSpPr>
              <p:cNvPr id="1329" name="Line 56"/>
              <p:cNvSpPr/>
              <p:nvPr/>
            </p:nvSpPr>
            <p:spPr>
              <a:xfrm>
                <a:off x="6975360" y="393408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 txBox="1"/>
              <p:nvPr/>
            </p:nvSpPr>
            <p:spPr>
              <a:xfrm>
                <a:off x="6975360" y="39340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1" name="组合 32"/>
          <p:cNvGrpSpPr/>
          <p:nvPr/>
        </p:nvGrpSpPr>
        <p:grpSpPr>
          <a:xfrm>
            <a:off x="8221680" y="3537000"/>
            <a:ext cx="623880" cy="821160"/>
            <a:chOff x="8221680" y="3537000"/>
            <a:chExt cx="623880" cy="821160"/>
          </a:xfrm>
        </p:grpSpPr>
        <p:sp>
          <p:nvSpPr>
            <p:cNvPr id="1332" name="Text Box 54"/>
            <p:cNvSpPr/>
            <p:nvPr/>
          </p:nvSpPr>
          <p:spPr>
            <a:xfrm>
              <a:off x="8221680" y="3537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 Box 55"/>
            <p:cNvSpPr/>
            <p:nvPr/>
          </p:nvSpPr>
          <p:spPr>
            <a:xfrm>
              <a:off x="8221680" y="39898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8394480" y="4004640"/>
              <a:ext cx="276840" cy="360"/>
              <a:chOff x="8394480" y="4004640"/>
              <a:chExt cx="276840" cy="360"/>
            </a:xfrm>
          </p:grpSpPr>
          <p:sp>
            <p:nvSpPr>
              <p:cNvPr id="1335" name="Line 56"/>
              <p:cNvSpPr/>
              <p:nvPr/>
            </p:nvSpPr>
            <p:spPr>
              <a:xfrm>
                <a:off x="8394480" y="400464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8394480" y="40046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33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9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340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2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6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7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8" name="文本框 101"/>
          <p:cNvSpPr/>
          <p:nvPr/>
        </p:nvSpPr>
        <p:spPr>
          <a:xfrm>
            <a:off x="316080" y="1044720"/>
            <a:ext cx="851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二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班的学生在植树节那天一共植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棵， 男生植树棵数占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Picture 129" descr=""/>
          <p:cNvPicPr/>
          <p:nvPr/>
        </p:nvPicPr>
        <p:blipFill>
          <a:blip r:embed="rId8"/>
          <a:stretch/>
        </p:blipFill>
        <p:spPr>
          <a:xfrm>
            <a:off x="4059360" y="1808280"/>
            <a:ext cx="312480" cy="807840"/>
          </a:xfrm>
          <a:prstGeom prst="rect">
            <a:avLst/>
          </a:prstGeom>
          <a:ln w="0">
            <a:noFill/>
          </a:ln>
        </p:spPr>
      </p:pic>
      <p:sp>
        <p:nvSpPr>
          <p:cNvPr id="1350" name="文本框 1"/>
          <p:cNvSpPr/>
          <p:nvPr/>
        </p:nvSpPr>
        <p:spPr>
          <a:xfrm>
            <a:off x="4371840" y="195264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男生植了多少棵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13"/>
          <p:cNvGrpSpPr/>
          <p:nvPr/>
        </p:nvGrpSpPr>
        <p:grpSpPr>
          <a:xfrm>
            <a:off x="2846160" y="2800440"/>
            <a:ext cx="3827160" cy="1008000"/>
            <a:chOff x="2846160" y="2800440"/>
            <a:chExt cx="3827160" cy="1008000"/>
          </a:xfrm>
        </p:grpSpPr>
        <p:grpSp>
          <p:nvGrpSpPr>
            <p:cNvPr id="1352" name="组合 32"/>
            <p:cNvGrpSpPr/>
            <p:nvPr/>
          </p:nvGrpSpPr>
          <p:grpSpPr>
            <a:xfrm>
              <a:off x="3902760" y="2929680"/>
              <a:ext cx="623520" cy="820440"/>
              <a:chOff x="3902760" y="2929680"/>
              <a:chExt cx="623520" cy="820440"/>
            </a:xfrm>
          </p:grpSpPr>
          <p:sp>
            <p:nvSpPr>
              <p:cNvPr id="1353" name="Text Box 54"/>
              <p:cNvSpPr/>
              <p:nvPr/>
            </p:nvSpPr>
            <p:spPr>
              <a:xfrm>
                <a:off x="3902760" y="292968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55"/>
              <p:cNvSpPr/>
              <p:nvPr/>
            </p:nvSpPr>
            <p:spPr>
              <a:xfrm>
                <a:off x="3902760" y="33818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4075200" y="3396600"/>
                <a:ext cx="276480" cy="360"/>
                <a:chOff x="4075200" y="3396600"/>
                <a:chExt cx="276480" cy="360"/>
              </a:xfrm>
            </p:grpSpPr>
            <p:sp>
              <p:nvSpPr>
                <p:cNvPr id="1356" name="Line 56"/>
                <p:cNvSpPr/>
                <p:nvPr/>
              </p:nvSpPr>
              <p:spPr>
                <a:xfrm>
                  <a:off x="4075200" y="33966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 txBox="1"/>
                <p:nvPr/>
              </p:nvSpPr>
              <p:spPr>
                <a:xfrm>
                  <a:off x="4075200" y="33966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8" name="文本框 1"/>
            <p:cNvSpPr/>
            <p:nvPr/>
          </p:nvSpPr>
          <p:spPr>
            <a:xfrm>
              <a:off x="2846160" y="2952720"/>
              <a:ext cx="51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文本框 3"/>
            <p:cNvSpPr/>
            <p:nvPr/>
          </p:nvSpPr>
          <p:spPr>
            <a:xfrm>
              <a:off x="3430440" y="292968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文本框 10"/>
            <p:cNvSpPr/>
            <p:nvPr/>
          </p:nvSpPr>
          <p:spPr>
            <a:xfrm>
              <a:off x="4703760" y="3133440"/>
              <a:ext cx="4482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文本框 11"/>
            <p:cNvSpPr/>
            <p:nvPr/>
          </p:nvSpPr>
          <p:spPr>
            <a:xfrm>
              <a:off x="5153760" y="2984400"/>
              <a:ext cx="51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文本框 12"/>
            <p:cNvSpPr/>
            <p:nvPr/>
          </p:nvSpPr>
          <p:spPr>
            <a:xfrm>
              <a:off x="5609520" y="2800440"/>
              <a:ext cx="1063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棵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文本框 14"/>
          <p:cNvSpPr/>
          <p:nvPr/>
        </p:nvSpPr>
        <p:spPr>
          <a:xfrm>
            <a:off x="3255120" y="40910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男生植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3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367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9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1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4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5" name="文本框 101"/>
          <p:cNvSpPr/>
          <p:nvPr/>
        </p:nvSpPr>
        <p:spPr>
          <a:xfrm>
            <a:off x="203040" y="87624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一张纸，做小旗用去了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Picture 269" descr=""/>
          <p:cNvPicPr/>
          <p:nvPr/>
        </p:nvPicPr>
        <p:blipFill>
          <a:blip r:embed="rId8"/>
          <a:stretch/>
        </p:blipFill>
        <p:spPr>
          <a:xfrm>
            <a:off x="5156280" y="716040"/>
            <a:ext cx="298440" cy="838080"/>
          </a:xfrm>
          <a:prstGeom prst="rect">
            <a:avLst/>
          </a:prstGeom>
          <a:ln w="0">
            <a:noFill/>
          </a:ln>
        </p:spPr>
      </p:pic>
      <p:sp>
        <p:nvSpPr>
          <p:cNvPr id="1377" name="文本框 1"/>
          <p:cNvSpPr/>
          <p:nvPr/>
        </p:nvSpPr>
        <p:spPr>
          <a:xfrm>
            <a:off x="5454720" y="87624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做小花用去了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对象 -2147482534" descr=""/>
          <p:cNvPicPr/>
          <p:nvPr/>
        </p:nvPicPr>
        <p:blipFill>
          <a:blip r:embed="rId9"/>
          <a:stretch/>
        </p:blipFill>
        <p:spPr>
          <a:xfrm>
            <a:off x="819000" y="1623960"/>
            <a:ext cx="325440" cy="838080"/>
          </a:xfrm>
          <a:prstGeom prst="rect">
            <a:avLst/>
          </a:prstGeom>
          <a:ln w="0">
            <a:noFill/>
          </a:ln>
        </p:spPr>
      </p:pic>
      <p:sp>
        <p:nvSpPr>
          <p:cNvPr id="1379" name="文本框 10"/>
          <p:cNvSpPr/>
          <p:nvPr/>
        </p:nvSpPr>
        <p:spPr>
          <a:xfrm>
            <a:off x="1144440" y="1784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一共用去了几分之几？还剩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组合 33"/>
          <p:cNvGrpSpPr/>
          <p:nvPr/>
        </p:nvGrpSpPr>
        <p:grpSpPr>
          <a:xfrm>
            <a:off x="2063880" y="2462040"/>
            <a:ext cx="2631960" cy="864360"/>
            <a:chOff x="2063880" y="2462040"/>
            <a:chExt cx="2631960" cy="864360"/>
          </a:xfrm>
        </p:grpSpPr>
        <p:grpSp>
          <p:nvGrpSpPr>
            <p:cNvPr id="1381" name="组合 32"/>
            <p:cNvGrpSpPr/>
            <p:nvPr/>
          </p:nvGrpSpPr>
          <p:grpSpPr>
            <a:xfrm>
              <a:off x="2063880" y="2462040"/>
              <a:ext cx="623520" cy="821160"/>
              <a:chOff x="2063880" y="2462040"/>
              <a:chExt cx="623520" cy="821160"/>
            </a:xfrm>
          </p:grpSpPr>
          <p:sp>
            <p:nvSpPr>
              <p:cNvPr id="1382" name="Text Box 54"/>
              <p:cNvSpPr/>
              <p:nvPr/>
            </p:nvSpPr>
            <p:spPr>
              <a:xfrm>
                <a:off x="2063880" y="24620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55"/>
              <p:cNvSpPr/>
              <p:nvPr/>
            </p:nvSpPr>
            <p:spPr>
              <a:xfrm>
                <a:off x="2063880" y="291492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2237040" y="2914200"/>
                <a:ext cx="276480" cy="360"/>
                <a:chOff x="2237040" y="2914200"/>
                <a:chExt cx="276480" cy="360"/>
              </a:xfrm>
            </p:grpSpPr>
            <p:sp>
              <p:nvSpPr>
                <p:cNvPr id="1385" name="Line 56"/>
                <p:cNvSpPr/>
                <p:nvPr/>
              </p:nvSpPr>
              <p:spPr>
                <a:xfrm>
                  <a:off x="2237040" y="2914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 txBox="1"/>
                <p:nvPr/>
              </p:nvSpPr>
              <p:spPr>
                <a:xfrm>
                  <a:off x="2237040" y="2914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7" name="组合 32"/>
            <p:cNvGrpSpPr/>
            <p:nvPr/>
          </p:nvGrpSpPr>
          <p:grpSpPr>
            <a:xfrm>
              <a:off x="3013920" y="2462040"/>
              <a:ext cx="623520" cy="821160"/>
              <a:chOff x="3013920" y="2462040"/>
              <a:chExt cx="623520" cy="821160"/>
            </a:xfrm>
          </p:grpSpPr>
          <p:sp>
            <p:nvSpPr>
              <p:cNvPr id="1388" name="Text Box 54"/>
              <p:cNvSpPr/>
              <p:nvPr/>
            </p:nvSpPr>
            <p:spPr>
              <a:xfrm>
                <a:off x="3013920" y="24620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Text Box 55"/>
              <p:cNvSpPr/>
              <p:nvPr/>
            </p:nvSpPr>
            <p:spPr>
              <a:xfrm>
                <a:off x="3013920" y="291492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3187080" y="2914200"/>
                <a:ext cx="276480" cy="360"/>
                <a:chOff x="3187080" y="2914200"/>
                <a:chExt cx="276480" cy="360"/>
              </a:xfrm>
            </p:grpSpPr>
            <p:sp>
              <p:nvSpPr>
                <p:cNvPr id="1391" name="Line 56"/>
                <p:cNvSpPr/>
                <p:nvPr/>
              </p:nvSpPr>
              <p:spPr>
                <a:xfrm>
                  <a:off x="3187080" y="2914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 txBox="1"/>
                <p:nvPr/>
              </p:nvSpPr>
              <p:spPr>
                <a:xfrm>
                  <a:off x="3187080" y="2914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3" name="文本框 12"/>
            <p:cNvSpPr/>
            <p:nvPr/>
          </p:nvSpPr>
          <p:spPr>
            <a:xfrm>
              <a:off x="2674800" y="2687760"/>
              <a:ext cx="659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组合 32"/>
            <p:cNvGrpSpPr/>
            <p:nvPr/>
          </p:nvGrpSpPr>
          <p:grpSpPr>
            <a:xfrm>
              <a:off x="4072320" y="2505240"/>
              <a:ext cx="623520" cy="821160"/>
              <a:chOff x="4072320" y="2505240"/>
              <a:chExt cx="623520" cy="821160"/>
            </a:xfrm>
          </p:grpSpPr>
          <p:sp>
            <p:nvSpPr>
              <p:cNvPr id="1395" name="Text Box 54"/>
              <p:cNvSpPr/>
              <p:nvPr/>
            </p:nvSpPr>
            <p:spPr>
              <a:xfrm>
                <a:off x="4072320" y="25052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55"/>
              <p:cNvSpPr/>
              <p:nvPr/>
            </p:nvSpPr>
            <p:spPr>
              <a:xfrm>
                <a:off x="4072320" y="295812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7" name=""/>
              <p:cNvGrpSpPr/>
              <p:nvPr/>
            </p:nvGrpSpPr>
            <p:grpSpPr>
              <a:xfrm>
                <a:off x="4245480" y="2957400"/>
                <a:ext cx="276480" cy="360"/>
                <a:chOff x="4245480" y="2957400"/>
                <a:chExt cx="276480" cy="360"/>
              </a:xfrm>
            </p:grpSpPr>
            <p:sp>
              <p:nvSpPr>
                <p:cNvPr id="1398" name="Line 56"/>
                <p:cNvSpPr/>
                <p:nvPr/>
              </p:nvSpPr>
              <p:spPr>
                <a:xfrm>
                  <a:off x="4245480" y="29574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 txBox="1"/>
                <p:nvPr/>
              </p:nvSpPr>
              <p:spPr>
                <a:xfrm>
                  <a:off x="4245480" y="29574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0" name="文本框 21"/>
            <p:cNvSpPr/>
            <p:nvPr/>
          </p:nvSpPr>
          <p:spPr>
            <a:xfrm>
              <a:off x="3553920" y="2505240"/>
              <a:ext cx="69228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组合 31"/>
          <p:cNvGrpSpPr/>
          <p:nvPr/>
        </p:nvGrpSpPr>
        <p:grpSpPr>
          <a:xfrm>
            <a:off x="2135160" y="3621240"/>
            <a:ext cx="2652840" cy="820440"/>
            <a:chOff x="2135160" y="3621240"/>
            <a:chExt cx="2652840" cy="820440"/>
          </a:xfrm>
        </p:grpSpPr>
        <p:grpSp>
          <p:nvGrpSpPr>
            <p:cNvPr id="1402" name="组合 32"/>
            <p:cNvGrpSpPr/>
            <p:nvPr/>
          </p:nvGrpSpPr>
          <p:grpSpPr>
            <a:xfrm>
              <a:off x="4164120" y="3621240"/>
              <a:ext cx="623880" cy="820440"/>
              <a:chOff x="4164120" y="3621240"/>
              <a:chExt cx="623880" cy="820440"/>
            </a:xfrm>
          </p:grpSpPr>
          <p:sp>
            <p:nvSpPr>
              <p:cNvPr id="1403" name="Text Box 54"/>
              <p:cNvSpPr/>
              <p:nvPr/>
            </p:nvSpPr>
            <p:spPr>
              <a:xfrm>
                <a:off x="4164120" y="362124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55"/>
              <p:cNvSpPr/>
              <p:nvPr/>
            </p:nvSpPr>
            <p:spPr>
              <a:xfrm>
                <a:off x="4164120" y="407340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5" name=""/>
              <p:cNvGrpSpPr/>
              <p:nvPr/>
            </p:nvGrpSpPr>
            <p:grpSpPr>
              <a:xfrm>
                <a:off x="4337640" y="4072680"/>
                <a:ext cx="276840" cy="360"/>
                <a:chOff x="4337640" y="4072680"/>
                <a:chExt cx="276840" cy="360"/>
              </a:xfrm>
            </p:grpSpPr>
            <p:sp>
              <p:nvSpPr>
                <p:cNvPr id="1406" name="Line 56"/>
                <p:cNvSpPr/>
                <p:nvPr/>
              </p:nvSpPr>
              <p:spPr>
                <a:xfrm>
                  <a:off x="4337640" y="4072680"/>
                  <a:ext cx="276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 txBox="1"/>
                <p:nvPr/>
              </p:nvSpPr>
              <p:spPr>
                <a:xfrm>
                  <a:off x="4337640" y="4072680"/>
                  <a:ext cx="27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8" name="文本框 22"/>
            <p:cNvSpPr/>
            <p:nvPr/>
          </p:nvSpPr>
          <p:spPr>
            <a:xfrm>
              <a:off x="3723480" y="3683880"/>
              <a:ext cx="69264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文本框 23"/>
            <p:cNvSpPr/>
            <p:nvPr/>
          </p:nvSpPr>
          <p:spPr>
            <a:xfrm>
              <a:off x="2135160" y="3831840"/>
              <a:ext cx="539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2"/>
            <p:cNvGrpSpPr/>
            <p:nvPr/>
          </p:nvGrpSpPr>
          <p:grpSpPr>
            <a:xfrm>
              <a:off x="3098880" y="3621240"/>
              <a:ext cx="623880" cy="820440"/>
              <a:chOff x="3098880" y="3621240"/>
              <a:chExt cx="623880" cy="820440"/>
            </a:xfrm>
          </p:grpSpPr>
          <p:sp>
            <p:nvSpPr>
              <p:cNvPr id="1411" name="Text Box 54"/>
              <p:cNvSpPr/>
              <p:nvPr/>
            </p:nvSpPr>
            <p:spPr>
              <a:xfrm>
                <a:off x="3098880" y="362124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Text Box 55"/>
              <p:cNvSpPr/>
              <p:nvPr/>
            </p:nvSpPr>
            <p:spPr>
              <a:xfrm>
                <a:off x="3098880" y="407340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3" name=""/>
              <p:cNvGrpSpPr/>
              <p:nvPr/>
            </p:nvGrpSpPr>
            <p:grpSpPr>
              <a:xfrm>
                <a:off x="3272400" y="4072680"/>
                <a:ext cx="276840" cy="360"/>
                <a:chOff x="3272400" y="4072680"/>
                <a:chExt cx="276840" cy="360"/>
              </a:xfrm>
            </p:grpSpPr>
            <p:sp>
              <p:nvSpPr>
                <p:cNvPr id="1414" name="Line 56"/>
                <p:cNvSpPr/>
                <p:nvPr/>
              </p:nvSpPr>
              <p:spPr>
                <a:xfrm>
                  <a:off x="3272400" y="4072680"/>
                  <a:ext cx="276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 txBox="1"/>
                <p:nvPr/>
              </p:nvSpPr>
              <p:spPr>
                <a:xfrm>
                  <a:off x="3272400" y="4072680"/>
                  <a:ext cx="27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6" name="文本框 29"/>
            <p:cNvSpPr/>
            <p:nvPr/>
          </p:nvSpPr>
          <p:spPr>
            <a:xfrm>
              <a:off x="2439360" y="3831840"/>
              <a:ext cx="6602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组合 46"/>
          <p:cNvGrpSpPr/>
          <p:nvPr/>
        </p:nvGrpSpPr>
        <p:grpSpPr>
          <a:xfrm>
            <a:off x="1144440" y="4795920"/>
            <a:ext cx="4310280" cy="1546920"/>
            <a:chOff x="1144440" y="4795920"/>
            <a:chExt cx="4310280" cy="1546920"/>
          </a:xfrm>
        </p:grpSpPr>
        <p:grpSp>
          <p:nvGrpSpPr>
            <p:cNvPr id="1418" name="组合 39"/>
            <p:cNvGrpSpPr/>
            <p:nvPr/>
          </p:nvGrpSpPr>
          <p:grpSpPr>
            <a:xfrm>
              <a:off x="1144440" y="4795920"/>
              <a:ext cx="4310280" cy="820440"/>
              <a:chOff x="1144440" y="4795920"/>
              <a:chExt cx="4310280" cy="820440"/>
            </a:xfrm>
          </p:grpSpPr>
          <p:sp>
            <p:nvSpPr>
              <p:cNvPr id="1419" name="文本框 34"/>
              <p:cNvSpPr/>
              <p:nvPr/>
            </p:nvSpPr>
            <p:spPr>
              <a:xfrm>
                <a:off x="1144440" y="4795920"/>
                <a:ext cx="431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答：一共用去了 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组合 32"/>
              <p:cNvGrpSpPr/>
              <p:nvPr/>
            </p:nvGrpSpPr>
            <p:grpSpPr>
              <a:xfrm>
                <a:off x="3463200" y="4795920"/>
                <a:ext cx="623520" cy="820440"/>
                <a:chOff x="3463200" y="4795920"/>
                <a:chExt cx="623520" cy="820440"/>
              </a:xfrm>
            </p:grpSpPr>
            <p:sp>
              <p:nvSpPr>
                <p:cNvPr id="1421" name="Text Box 54"/>
                <p:cNvSpPr/>
                <p:nvPr/>
              </p:nvSpPr>
              <p:spPr>
                <a:xfrm>
                  <a:off x="3463200" y="4795920"/>
                  <a:ext cx="62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Text Box 55"/>
                <p:cNvSpPr/>
                <p:nvPr/>
              </p:nvSpPr>
              <p:spPr>
                <a:xfrm>
                  <a:off x="3463200" y="5248080"/>
                  <a:ext cx="62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3" name=""/>
                <p:cNvGrpSpPr/>
                <p:nvPr/>
              </p:nvGrpSpPr>
              <p:grpSpPr>
                <a:xfrm>
                  <a:off x="3636360" y="5247720"/>
                  <a:ext cx="276480" cy="360"/>
                  <a:chOff x="3636360" y="5247720"/>
                  <a:chExt cx="276480" cy="360"/>
                </a:xfrm>
              </p:grpSpPr>
              <p:sp>
                <p:nvSpPr>
                  <p:cNvPr id="1424" name="Line 56"/>
                  <p:cNvSpPr/>
                  <p:nvPr/>
                </p:nvSpPr>
                <p:spPr>
                  <a:xfrm>
                    <a:off x="3636360" y="5247720"/>
                    <a:ext cx="27648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 txBox="1"/>
                  <p:nvPr/>
                </p:nvSpPr>
                <p:spPr>
                  <a:xfrm>
                    <a:off x="3636360" y="5247720"/>
                    <a:ext cx="27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6" name="组合 45"/>
            <p:cNvGrpSpPr/>
            <p:nvPr/>
          </p:nvGrpSpPr>
          <p:grpSpPr>
            <a:xfrm>
              <a:off x="1772280" y="5522400"/>
              <a:ext cx="1493280" cy="820440"/>
              <a:chOff x="1772280" y="5522400"/>
              <a:chExt cx="1493280" cy="820440"/>
            </a:xfrm>
          </p:grpSpPr>
          <p:sp>
            <p:nvSpPr>
              <p:cNvPr id="1427" name="文本框 40"/>
              <p:cNvSpPr/>
              <p:nvPr/>
            </p:nvSpPr>
            <p:spPr>
              <a:xfrm>
                <a:off x="1772280" y="5522400"/>
                <a:ext cx="149328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还剩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8" name="组合 32"/>
              <p:cNvGrpSpPr/>
              <p:nvPr/>
            </p:nvGrpSpPr>
            <p:grpSpPr>
              <a:xfrm>
                <a:off x="2473920" y="5522400"/>
                <a:ext cx="623160" cy="820440"/>
                <a:chOff x="2473920" y="5522400"/>
                <a:chExt cx="623160" cy="820440"/>
              </a:xfrm>
            </p:grpSpPr>
            <p:sp>
              <p:nvSpPr>
                <p:cNvPr id="1429" name="Text Box 54"/>
                <p:cNvSpPr/>
                <p:nvPr/>
              </p:nvSpPr>
              <p:spPr>
                <a:xfrm>
                  <a:off x="2473920" y="5522400"/>
                  <a:ext cx="62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Text Box 55"/>
                <p:cNvSpPr/>
                <p:nvPr/>
              </p:nvSpPr>
              <p:spPr>
                <a:xfrm>
                  <a:off x="2473920" y="5974560"/>
                  <a:ext cx="62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1" name=""/>
                <p:cNvGrpSpPr/>
                <p:nvPr/>
              </p:nvGrpSpPr>
              <p:grpSpPr>
                <a:xfrm>
                  <a:off x="2647080" y="5974200"/>
                  <a:ext cx="276480" cy="360"/>
                  <a:chOff x="2647080" y="5974200"/>
                  <a:chExt cx="276480" cy="360"/>
                </a:xfrm>
              </p:grpSpPr>
              <p:sp>
                <p:nvSpPr>
                  <p:cNvPr id="1432" name="Line 56"/>
                  <p:cNvSpPr/>
                  <p:nvPr/>
                </p:nvSpPr>
                <p:spPr>
                  <a:xfrm>
                    <a:off x="2647080" y="5974200"/>
                    <a:ext cx="27648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 txBox="1"/>
                  <p:nvPr/>
                </p:nvSpPr>
                <p:spPr>
                  <a:xfrm>
                    <a:off x="2647080" y="5974200"/>
                    <a:ext cx="27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4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6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437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9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1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4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5" name="文本框 101"/>
          <p:cNvSpPr/>
          <p:nvPr/>
        </p:nvSpPr>
        <p:spPr>
          <a:xfrm>
            <a:off x="165240" y="728640"/>
            <a:ext cx="8813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一块蛋糕平均分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，爸爸吃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，妈妈吃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，小明吃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们一家三口人一共吃了这块蛋糕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块蛋糕还剩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组合 32"/>
          <p:cNvGrpSpPr/>
          <p:nvPr/>
        </p:nvGrpSpPr>
        <p:grpSpPr>
          <a:xfrm>
            <a:off x="2208240" y="3019320"/>
            <a:ext cx="623880" cy="821520"/>
            <a:chOff x="2208240" y="3019320"/>
            <a:chExt cx="623880" cy="821520"/>
          </a:xfrm>
        </p:grpSpPr>
        <p:sp>
          <p:nvSpPr>
            <p:cNvPr id="1447" name="Text Box 54"/>
            <p:cNvSpPr/>
            <p:nvPr/>
          </p:nvSpPr>
          <p:spPr>
            <a:xfrm>
              <a:off x="2208240" y="30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55"/>
            <p:cNvSpPr/>
            <p:nvPr/>
          </p:nvSpPr>
          <p:spPr>
            <a:xfrm>
              <a:off x="2208240" y="34725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9" name=""/>
            <p:cNvGrpSpPr/>
            <p:nvPr/>
          </p:nvGrpSpPr>
          <p:grpSpPr>
            <a:xfrm>
              <a:off x="2381760" y="3471840"/>
              <a:ext cx="276840" cy="360"/>
              <a:chOff x="2381760" y="3471840"/>
              <a:chExt cx="276840" cy="360"/>
            </a:xfrm>
          </p:grpSpPr>
          <p:sp>
            <p:nvSpPr>
              <p:cNvPr id="1450" name="Line 56"/>
              <p:cNvSpPr/>
              <p:nvPr/>
            </p:nvSpPr>
            <p:spPr>
              <a:xfrm>
                <a:off x="2381760" y="347184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 txBox="1"/>
              <p:nvPr/>
            </p:nvSpPr>
            <p:spPr>
              <a:xfrm>
                <a:off x="2381760" y="34718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2" name="组合 23"/>
          <p:cNvGrpSpPr/>
          <p:nvPr/>
        </p:nvGrpSpPr>
        <p:grpSpPr>
          <a:xfrm>
            <a:off x="1073160" y="4935600"/>
            <a:ext cx="2655720" cy="923040"/>
            <a:chOff x="1073160" y="4935600"/>
            <a:chExt cx="2655720" cy="923040"/>
          </a:xfrm>
        </p:grpSpPr>
        <p:grpSp>
          <p:nvGrpSpPr>
            <p:cNvPr id="1453" name="组合 32"/>
            <p:cNvGrpSpPr/>
            <p:nvPr/>
          </p:nvGrpSpPr>
          <p:grpSpPr>
            <a:xfrm>
              <a:off x="3105360" y="5038200"/>
              <a:ext cx="623520" cy="820440"/>
              <a:chOff x="3105360" y="5038200"/>
              <a:chExt cx="623520" cy="820440"/>
            </a:xfrm>
          </p:grpSpPr>
          <p:sp>
            <p:nvSpPr>
              <p:cNvPr id="1454" name="Text Box 54"/>
              <p:cNvSpPr/>
              <p:nvPr/>
            </p:nvSpPr>
            <p:spPr>
              <a:xfrm>
                <a:off x="3105360" y="503820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Text Box 55"/>
              <p:cNvSpPr/>
              <p:nvPr/>
            </p:nvSpPr>
            <p:spPr>
              <a:xfrm>
                <a:off x="3105360" y="549036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"/>
              <p:cNvGrpSpPr/>
              <p:nvPr/>
            </p:nvGrpSpPr>
            <p:grpSpPr>
              <a:xfrm>
                <a:off x="3278520" y="5490000"/>
                <a:ext cx="276480" cy="360"/>
                <a:chOff x="3278520" y="5490000"/>
                <a:chExt cx="276480" cy="360"/>
              </a:xfrm>
            </p:grpSpPr>
            <p:sp>
              <p:nvSpPr>
                <p:cNvPr id="1457" name="Line 56"/>
                <p:cNvSpPr/>
                <p:nvPr/>
              </p:nvSpPr>
              <p:spPr>
                <a:xfrm>
                  <a:off x="3278520" y="54900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 txBox="1"/>
                <p:nvPr/>
              </p:nvSpPr>
              <p:spPr>
                <a:xfrm>
                  <a:off x="3278520" y="54900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9" name="组合 32"/>
            <p:cNvGrpSpPr/>
            <p:nvPr/>
          </p:nvGrpSpPr>
          <p:grpSpPr>
            <a:xfrm>
              <a:off x="2034360" y="4935600"/>
              <a:ext cx="623520" cy="820440"/>
              <a:chOff x="2034360" y="4935600"/>
              <a:chExt cx="623520" cy="820440"/>
            </a:xfrm>
          </p:grpSpPr>
          <p:sp>
            <p:nvSpPr>
              <p:cNvPr id="1460" name="Text Box 54"/>
              <p:cNvSpPr/>
              <p:nvPr/>
            </p:nvSpPr>
            <p:spPr>
              <a:xfrm>
                <a:off x="2034360" y="493560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Text Box 55"/>
              <p:cNvSpPr/>
              <p:nvPr/>
            </p:nvSpPr>
            <p:spPr>
              <a:xfrm>
                <a:off x="2034360" y="538776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2207520" y="5387040"/>
                <a:ext cx="276480" cy="360"/>
                <a:chOff x="2207520" y="5387040"/>
                <a:chExt cx="276480" cy="360"/>
              </a:xfrm>
            </p:grpSpPr>
            <p:sp>
              <p:nvSpPr>
                <p:cNvPr id="1463" name="Line 56"/>
                <p:cNvSpPr/>
                <p:nvPr/>
              </p:nvSpPr>
              <p:spPr>
                <a:xfrm>
                  <a:off x="2207520" y="538704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 txBox="1"/>
                <p:nvPr/>
              </p:nvSpPr>
              <p:spPr>
                <a:xfrm>
                  <a:off x="2207520" y="538704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5" name="文本框 20"/>
            <p:cNvSpPr/>
            <p:nvPr/>
          </p:nvSpPr>
          <p:spPr>
            <a:xfrm>
              <a:off x="1073160" y="5024160"/>
              <a:ext cx="742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文本框 21"/>
            <p:cNvSpPr/>
            <p:nvPr/>
          </p:nvSpPr>
          <p:spPr>
            <a:xfrm>
              <a:off x="1446480" y="5038200"/>
              <a:ext cx="762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文本框 22"/>
            <p:cNvSpPr/>
            <p:nvPr/>
          </p:nvSpPr>
          <p:spPr>
            <a:xfrm>
              <a:off x="2579400" y="5301360"/>
              <a:ext cx="688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2197080" y="774720"/>
            <a:ext cx="4334040" cy="1049040"/>
          </a:xfrm>
          <a:prstGeom prst="wedgeRoundRectCallout">
            <a:avLst>
              <a:gd name="adj1" fmla="val -54166"/>
              <a:gd name="adj2" fmla="val 314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同学们，课间休息时，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喜欢做什么活动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279360" y="4160880"/>
            <a:ext cx="8280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学生在踢毽子，其中   是女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男生。男女生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32"/>
          <p:cNvGrpSpPr/>
          <p:nvPr/>
        </p:nvGrpSpPr>
        <p:grpSpPr>
          <a:xfrm>
            <a:off x="5410080" y="4073400"/>
            <a:ext cx="623880" cy="821520"/>
            <a:chOff x="5410080" y="4073400"/>
            <a:chExt cx="623880" cy="821520"/>
          </a:xfrm>
        </p:grpSpPr>
        <p:sp>
          <p:nvSpPr>
            <p:cNvPr id="1012" name="Text Box 54"/>
            <p:cNvSpPr/>
            <p:nvPr/>
          </p:nvSpPr>
          <p:spPr>
            <a:xfrm>
              <a:off x="5410080" y="40734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55"/>
            <p:cNvSpPr/>
            <p:nvPr/>
          </p:nvSpPr>
          <p:spPr>
            <a:xfrm>
              <a:off x="5410080" y="45266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5582880" y="4541040"/>
              <a:ext cx="276840" cy="360"/>
              <a:chOff x="5582880" y="4541040"/>
              <a:chExt cx="276840" cy="360"/>
            </a:xfrm>
          </p:grpSpPr>
          <p:sp>
            <p:nvSpPr>
              <p:cNvPr id="1015" name="Line 56"/>
              <p:cNvSpPr/>
              <p:nvPr/>
            </p:nvSpPr>
            <p:spPr>
              <a:xfrm>
                <a:off x="5582880" y="45410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5582880" y="45410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组合 32"/>
          <p:cNvGrpSpPr/>
          <p:nvPr/>
        </p:nvGrpSpPr>
        <p:grpSpPr>
          <a:xfrm>
            <a:off x="179280" y="4622760"/>
            <a:ext cx="623880" cy="820440"/>
            <a:chOff x="179280" y="4622760"/>
            <a:chExt cx="623880" cy="820440"/>
          </a:xfrm>
        </p:grpSpPr>
        <p:sp>
          <p:nvSpPr>
            <p:cNvPr id="1018" name="Text Box 54"/>
            <p:cNvSpPr/>
            <p:nvPr/>
          </p:nvSpPr>
          <p:spPr>
            <a:xfrm>
              <a:off x="179280" y="46227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55"/>
            <p:cNvSpPr/>
            <p:nvPr/>
          </p:nvSpPr>
          <p:spPr>
            <a:xfrm>
              <a:off x="179280" y="50749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352080" y="5089680"/>
              <a:ext cx="276840" cy="360"/>
              <a:chOff x="352080" y="5089680"/>
              <a:chExt cx="276840" cy="360"/>
            </a:xfrm>
          </p:grpSpPr>
          <p:sp>
            <p:nvSpPr>
              <p:cNvPr id="1021" name="Line 56"/>
              <p:cNvSpPr/>
              <p:nvPr/>
            </p:nvSpPr>
            <p:spPr>
              <a:xfrm>
                <a:off x="352080" y="508968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 txBox="1"/>
              <p:nvPr/>
            </p:nvSpPr>
            <p:spPr>
              <a:xfrm>
                <a:off x="352080" y="50896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3" name="图片 6" descr="6)5][}VZ%@FXJ)FA]TI76$O"/>
          <p:cNvPicPr/>
          <p:nvPr/>
        </p:nvPicPr>
        <p:blipFill>
          <a:blip r:embed="rId8"/>
          <a:stretch/>
        </p:blipFill>
        <p:spPr>
          <a:xfrm>
            <a:off x="803160" y="758880"/>
            <a:ext cx="1030320" cy="1098360"/>
          </a:xfrm>
          <a:prstGeom prst="rect">
            <a:avLst/>
          </a:prstGeom>
          <a:ln w="0">
            <a:noFill/>
          </a:ln>
        </p:spPr>
      </p:pic>
      <p:grpSp>
        <p:nvGrpSpPr>
          <p:cNvPr id="1024" name="组合 11"/>
          <p:cNvGrpSpPr/>
          <p:nvPr/>
        </p:nvGrpSpPr>
        <p:grpSpPr>
          <a:xfrm>
            <a:off x="803160" y="758880"/>
            <a:ext cx="5727600" cy="1096920"/>
            <a:chOff x="803160" y="758880"/>
            <a:chExt cx="5727600" cy="1096920"/>
          </a:xfrm>
        </p:grpSpPr>
        <p:sp>
          <p:nvSpPr>
            <p:cNvPr id="1025" name="AutoShape 27"/>
            <p:cNvSpPr/>
            <p:nvPr/>
          </p:nvSpPr>
          <p:spPr>
            <a:xfrm>
              <a:off x="2196000" y="774000"/>
              <a:ext cx="4334760" cy="1049040"/>
            </a:xfrm>
            <a:prstGeom prst="wedgeRoundRectCallout">
              <a:avLst>
                <a:gd name="adj1" fmla="val -54166"/>
                <a:gd name="adj2" fmla="val 313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同学们，课间休息时，你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喜欢做什么活动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10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803160" y="758880"/>
              <a:ext cx="102996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22"/>
          <p:cNvGrpSpPr/>
          <p:nvPr/>
        </p:nvGrpSpPr>
        <p:grpSpPr>
          <a:xfrm>
            <a:off x="2196720" y="2143080"/>
            <a:ext cx="6807600" cy="1522800"/>
            <a:chOff x="2196720" y="2143080"/>
            <a:chExt cx="6807600" cy="1522800"/>
          </a:xfrm>
        </p:grpSpPr>
        <p:sp>
          <p:nvSpPr>
            <p:cNvPr id="1028" name="AutoShape 27"/>
            <p:cNvSpPr/>
            <p:nvPr/>
          </p:nvSpPr>
          <p:spPr>
            <a:xfrm flipH="1">
              <a:off x="2196360" y="2143080"/>
              <a:ext cx="5465880" cy="1522800"/>
            </a:xfrm>
            <a:prstGeom prst="wedgeRoundRectCallout">
              <a:avLst>
                <a:gd name="adj1" fmla="val -54351"/>
                <a:gd name="adj2" fmla="val -9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同学们的课间活动真是丰富多彩呀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其实这里面还藏着许多数学信息呢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让我们一起来看一看吧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图片 21" descr="6)5][}VZ%@FXJ)FA]TI76$O"/>
            <p:cNvPicPr/>
            <p:nvPr/>
          </p:nvPicPr>
          <p:blipFill>
            <a:blip r:embed="rId10"/>
            <a:stretch/>
          </p:blipFill>
          <p:spPr>
            <a:xfrm>
              <a:off x="7974720" y="2359080"/>
              <a:ext cx="1029600" cy="109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034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039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4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5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2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293760" y="207324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922320" y="3024360"/>
          <a:ext cx="5952960" cy="2180880"/>
        </p:xfrm>
        <a:graphic>
          <a:graphicData uri="http://schemas.openxmlformats.org/drawingml/2006/table">
            <a:tbl>
              <a:tblPr/>
              <a:tblGrid>
                <a:gridCol w="1465200"/>
                <a:gridCol w="4487760"/>
              </a:tblGrid>
              <a:tr h="109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有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名学生，其中   是女生，  是男生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109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女生各有多少人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组合 32"/>
          <p:cNvGrpSpPr/>
          <p:nvPr/>
        </p:nvGrpSpPr>
        <p:grpSpPr>
          <a:xfrm>
            <a:off x="4357800" y="2965320"/>
            <a:ext cx="428400" cy="570240"/>
            <a:chOff x="4357800" y="2965320"/>
            <a:chExt cx="428400" cy="570240"/>
          </a:xfrm>
        </p:grpSpPr>
        <p:sp>
          <p:nvSpPr>
            <p:cNvPr id="1056" name="Text Box 54"/>
            <p:cNvSpPr/>
            <p:nvPr/>
          </p:nvSpPr>
          <p:spPr>
            <a:xfrm>
              <a:off x="4357800" y="296532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55"/>
            <p:cNvSpPr/>
            <p:nvPr/>
          </p:nvSpPr>
          <p:spPr>
            <a:xfrm>
              <a:off x="4357800" y="3289320"/>
              <a:ext cx="42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4476240" y="3299400"/>
              <a:ext cx="190080" cy="360"/>
              <a:chOff x="4476240" y="3299400"/>
              <a:chExt cx="190080" cy="360"/>
            </a:xfrm>
          </p:grpSpPr>
          <p:sp>
            <p:nvSpPr>
              <p:cNvPr id="1059" name="Line 56"/>
              <p:cNvSpPr/>
              <p:nvPr/>
            </p:nvSpPr>
            <p:spPr>
              <a:xfrm>
                <a:off x="4476240" y="3299400"/>
                <a:ext cx="19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4476240" y="3299400"/>
                <a:ext cx="19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1" name="组合 32"/>
          <p:cNvGrpSpPr/>
          <p:nvPr/>
        </p:nvGrpSpPr>
        <p:grpSpPr>
          <a:xfrm>
            <a:off x="5468760" y="2927520"/>
            <a:ext cx="317520" cy="580320"/>
            <a:chOff x="5468760" y="2927520"/>
            <a:chExt cx="317520" cy="580320"/>
          </a:xfrm>
        </p:grpSpPr>
        <p:sp>
          <p:nvSpPr>
            <p:cNvPr id="1062" name="Text Box 54"/>
            <p:cNvSpPr/>
            <p:nvPr/>
          </p:nvSpPr>
          <p:spPr>
            <a:xfrm flipH="1">
              <a:off x="5468760" y="2927520"/>
              <a:ext cx="31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55"/>
            <p:cNvSpPr/>
            <p:nvPr/>
          </p:nvSpPr>
          <p:spPr>
            <a:xfrm flipH="1">
              <a:off x="5468760" y="3231360"/>
              <a:ext cx="31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5557680" y="3240720"/>
              <a:ext cx="140760" cy="360"/>
              <a:chOff x="5557680" y="3240720"/>
              <a:chExt cx="140760" cy="360"/>
            </a:xfrm>
          </p:grpSpPr>
          <p:sp>
            <p:nvSpPr>
              <p:cNvPr id="1065" name="Line 56"/>
              <p:cNvSpPr/>
              <p:nvPr/>
            </p:nvSpPr>
            <p:spPr>
              <a:xfrm flipH="1">
                <a:off x="5557680" y="3240720"/>
                <a:ext cx="14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5557680" y="3240720"/>
                <a:ext cx="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071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076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1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9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4"/>
          <p:cNvSpPr/>
          <p:nvPr/>
        </p:nvSpPr>
        <p:spPr>
          <a:xfrm>
            <a:off x="785880" y="2417760"/>
            <a:ext cx="3500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怎样求女生的人数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圆角矩形 2"/>
          <p:cNvSpPr/>
          <p:nvPr/>
        </p:nvSpPr>
        <p:spPr>
          <a:xfrm>
            <a:off x="5000760" y="3395520"/>
            <a:ext cx="3857400" cy="20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椭圆 5"/>
          <p:cNvSpPr/>
          <p:nvPr/>
        </p:nvSpPr>
        <p:spPr>
          <a:xfrm>
            <a:off x="5143680" y="375300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椭圆 7"/>
          <p:cNvSpPr/>
          <p:nvPr/>
        </p:nvSpPr>
        <p:spPr>
          <a:xfrm>
            <a:off x="5757840" y="375300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椭圆 8"/>
          <p:cNvSpPr/>
          <p:nvPr/>
        </p:nvSpPr>
        <p:spPr>
          <a:xfrm>
            <a:off x="637236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椭圆 20"/>
          <p:cNvSpPr/>
          <p:nvPr/>
        </p:nvSpPr>
        <p:spPr>
          <a:xfrm>
            <a:off x="698652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椭圆 21"/>
          <p:cNvSpPr/>
          <p:nvPr/>
        </p:nvSpPr>
        <p:spPr>
          <a:xfrm>
            <a:off x="760104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椭圆 22"/>
          <p:cNvSpPr/>
          <p:nvPr/>
        </p:nvSpPr>
        <p:spPr>
          <a:xfrm>
            <a:off x="821520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椭圆 23"/>
          <p:cNvSpPr/>
          <p:nvPr/>
        </p:nvSpPr>
        <p:spPr>
          <a:xfrm>
            <a:off x="5143680" y="453852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椭圆 28"/>
          <p:cNvSpPr/>
          <p:nvPr/>
        </p:nvSpPr>
        <p:spPr>
          <a:xfrm>
            <a:off x="5757840" y="453852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椭圆 29"/>
          <p:cNvSpPr/>
          <p:nvPr/>
        </p:nvSpPr>
        <p:spPr>
          <a:xfrm>
            <a:off x="637236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椭圆 30"/>
          <p:cNvSpPr/>
          <p:nvPr/>
        </p:nvSpPr>
        <p:spPr>
          <a:xfrm>
            <a:off x="698652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椭圆 31"/>
          <p:cNvSpPr/>
          <p:nvPr/>
        </p:nvSpPr>
        <p:spPr>
          <a:xfrm>
            <a:off x="760104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椭圆 32"/>
          <p:cNvSpPr/>
          <p:nvPr/>
        </p:nvSpPr>
        <p:spPr>
          <a:xfrm>
            <a:off x="821520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直接连接符 33"/>
          <p:cNvSpPr/>
          <p:nvPr/>
        </p:nvSpPr>
        <p:spPr>
          <a:xfrm>
            <a:off x="6286680" y="3417840"/>
            <a:ext cx="0" cy="207324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34"/>
          <p:cNvSpPr/>
          <p:nvPr/>
        </p:nvSpPr>
        <p:spPr>
          <a:xfrm>
            <a:off x="7572240" y="3417840"/>
            <a:ext cx="0" cy="207324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30"/>
          <p:cNvSpPr/>
          <p:nvPr/>
        </p:nvSpPr>
        <p:spPr>
          <a:xfrm>
            <a:off x="3429000" y="56451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÷3=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"/>
          <p:cNvSpPr/>
          <p:nvPr/>
        </p:nvSpPr>
        <p:spPr>
          <a:xfrm>
            <a:off x="401760" y="196056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组合 18"/>
          <p:cNvGrpSpPr/>
          <p:nvPr/>
        </p:nvGrpSpPr>
        <p:grpSpPr>
          <a:xfrm>
            <a:off x="0" y="3014640"/>
            <a:ext cx="4579560" cy="2621160"/>
            <a:chOff x="0" y="3014640"/>
            <a:chExt cx="4579560" cy="2621160"/>
          </a:xfrm>
        </p:grpSpPr>
        <p:grpSp>
          <p:nvGrpSpPr>
            <p:cNvPr id="1109" name="组合 29"/>
            <p:cNvGrpSpPr/>
            <p:nvPr/>
          </p:nvGrpSpPr>
          <p:grpSpPr>
            <a:xfrm>
              <a:off x="1364040" y="3014640"/>
              <a:ext cx="3215520" cy="2355840"/>
              <a:chOff x="1364040" y="3014640"/>
              <a:chExt cx="3215520" cy="2355840"/>
            </a:xfrm>
          </p:grpSpPr>
          <p:sp>
            <p:nvSpPr>
              <p:cNvPr id="1110" name="AutoShape 27"/>
              <p:cNvSpPr/>
              <p:nvPr/>
            </p:nvSpPr>
            <p:spPr>
              <a:xfrm>
                <a:off x="1364040" y="3043080"/>
                <a:ext cx="3215520" cy="2327400"/>
              </a:xfrm>
              <a:prstGeom prst="wedgeRoundRectCallout">
                <a:avLst>
                  <a:gd name="adj1" fmla="val -56972"/>
                  <a:gd name="adj2" fmla="val 3215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因为   是女生，要求女生人数就是要把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2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平均分成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3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，求出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是多少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Text Box 51"/>
              <p:cNvSpPr/>
              <p:nvPr/>
            </p:nvSpPr>
            <p:spPr>
              <a:xfrm>
                <a:off x="2245320" y="301464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Text Box 52"/>
              <p:cNvSpPr/>
              <p:nvPr/>
            </p:nvSpPr>
            <p:spPr>
              <a:xfrm>
                <a:off x="2181600" y="340992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2253240" y="3475800"/>
                <a:ext cx="357120" cy="360"/>
                <a:chOff x="2253240" y="3475800"/>
                <a:chExt cx="357120" cy="360"/>
              </a:xfrm>
            </p:grpSpPr>
            <p:sp>
              <p:nvSpPr>
                <p:cNvPr id="1114" name="Line 53"/>
                <p:cNvSpPr/>
                <p:nvPr/>
              </p:nvSpPr>
              <p:spPr>
                <a:xfrm>
                  <a:off x="2253240" y="347580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2253240" y="347580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16" name="图片 2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0" y="4538520"/>
              <a:ext cx="1029960" cy="109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121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126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1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9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圆角矩形 37"/>
          <p:cNvSpPr/>
          <p:nvPr/>
        </p:nvSpPr>
        <p:spPr>
          <a:xfrm>
            <a:off x="5143680" y="2725560"/>
            <a:ext cx="357156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等腰三角形 38"/>
          <p:cNvSpPr/>
          <p:nvPr/>
        </p:nvSpPr>
        <p:spPr>
          <a:xfrm>
            <a:off x="535788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等腰三角形 39"/>
          <p:cNvSpPr/>
          <p:nvPr/>
        </p:nvSpPr>
        <p:spPr>
          <a:xfrm>
            <a:off x="591516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等腰三角形 40"/>
          <p:cNvSpPr/>
          <p:nvPr/>
        </p:nvSpPr>
        <p:spPr>
          <a:xfrm>
            <a:off x="6472080" y="3011400"/>
            <a:ext cx="35748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等腰三角形 41"/>
          <p:cNvSpPr/>
          <p:nvPr/>
        </p:nvSpPr>
        <p:spPr>
          <a:xfrm>
            <a:off x="702936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等腰三角形 42"/>
          <p:cNvSpPr/>
          <p:nvPr/>
        </p:nvSpPr>
        <p:spPr>
          <a:xfrm>
            <a:off x="758664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等腰三角形 43"/>
          <p:cNvSpPr/>
          <p:nvPr/>
        </p:nvSpPr>
        <p:spPr>
          <a:xfrm>
            <a:off x="814392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等腰三角形 44"/>
          <p:cNvSpPr/>
          <p:nvPr/>
        </p:nvSpPr>
        <p:spPr>
          <a:xfrm>
            <a:off x="535788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等腰三角形 45"/>
          <p:cNvSpPr/>
          <p:nvPr/>
        </p:nvSpPr>
        <p:spPr>
          <a:xfrm>
            <a:off x="591516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等腰三角形 46"/>
          <p:cNvSpPr/>
          <p:nvPr/>
        </p:nvSpPr>
        <p:spPr>
          <a:xfrm>
            <a:off x="6472080" y="3726000"/>
            <a:ext cx="35748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等腰三角形 47"/>
          <p:cNvSpPr/>
          <p:nvPr/>
        </p:nvSpPr>
        <p:spPr>
          <a:xfrm>
            <a:off x="702936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等腰三角形 48"/>
          <p:cNvSpPr/>
          <p:nvPr/>
        </p:nvSpPr>
        <p:spPr>
          <a:xfrm>
            <a:off x="758664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等腰三角形 49"/>
          <p:cNvSpPr/>
          <p:nvPr/>
        </p:nvSpPr>
        <p:spPr>
          <a:xfrm>
            <a:off x="814392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50"/>
          <p:cNvSpPr/>
          <p:nvPr/>
        </p:nvSpPr>
        <p:spPr>
          <a:xfrm>
            <a:off x="6357960" y="2725560"/>
            <a:ext cx="0" cy="178596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51"/>
          <p:cNvSpPr/>
          <p:nvPr/>
        </p:nvSpPr>
        <p:spPr>
          <a:xfrm>
            <a:off x="7500960" y="2725560"/>
            <a:ext cx="0" cy="178596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33"/>
          <p:cNvSpPr/>
          <p:nvPr/>
        </p:nvSpPr>
        <p:spPr>
          <a:xfrm>
            <a:off x="3429000" y="458316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÷3=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2=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3"/>
          <p:cNvSpPr/>
          <p:nvPr/>
        </p:nvSpPr>
        <p:spPr>
          <a:xfrm>
            <a:off x="401760" y="196056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55"/>
          <p:cNvGrpSpPr/>
          <p:nvPr/>
        </p:nvGrpSpPr>
        <p:grpSpPr>
          <a:xfrm>
            <a:off x="163440" y="2581200"/>
            <a:ext cx="4730400" cy="1857600"/>
            <a:chOff x="163440" y="2581200"/>
            <a:chExt cx="4730400" cy="1857600"/>
          </a:xfrm>
        </p:grpSpPr>
        <p:grpSp>
          <p:nvGrpSpPr>
            <p:cNvPr id="1158" name="组合 14"/>
            <p:cNvGrpSpPr/>
            <p:nvPr/>
          </p:nvGrpSpPr>
          <p:grpSpPr>
            <a:xfrm>
              <a:off x="1108080" y="2581200"/>
              <a:ext cx="3785760" cy="1857600"/>
              <a:chOff x="1108080" y="2581200"/>
              <a:chExt cx="3785760" cy="1857600"/>
            </a:xfrm>
          </p:grpSpPr>
          <p:sp>
            <p:nvSpPr>
              <p:cNvPr id="1159" name="AutoShape 27"/>
              <p:cNvSpPr/>
              <p:nvPr/>
            </p:nvSpPr>
            <p:spPr>
              <a:xfrm>
                <a:off x="1108080" y="2652480"/>
                <a:ext cx="3785760" cy="1786320"/>
              </a:xfrm>
              <a:prstGeom prst="wedgeRoundRectCallout">
                <a:avLst>
                  <a:gd name="adj1" fmla="val -57986"/>
                  <a:gd name="adj2" fmla="val -13458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因为   是男生，要求男生人数就要把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2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平均分成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3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，求出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2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是多少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Text Box 51"/>
              <p:cNvSpPr/>
              <p:nvPr/>
            </p:nvSpPr>
            <p:spPr>
              <a:xfrm>
                <a:off x="1957320" y="258120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Text Box 52"/>
              <p:cNvSpPr/>
              <p:nvPr/>
            </p:nvSpPr>
            <p:spPr>
              <a:xfrm>
                <a:off x="1893600" y="297684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1965240" y="3042720"/>
                <a:ext cx="357120" cy="360"/>
                <a:chOff x="1965240" y="3042720"/>
                <a:chExt cx="357120" cy="360"/>
              </a:xfrm>
            </p:grpSpPr>
            <p:sp>
              <p:nvSpPr>
                <p:cNvPr id="1163" name="Line 53"/>
                <p:cNvSpPr/>
                <p:nvPr/>
              </p:nvSpPr>
              <p:spPr>
                <a:xfrm>
                  <a:off x="1965240" y="304272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 txBox="1"/>
                <p:nvPr/>
              </p:nvSpPr>
              <p:spPr>
                <a:xfrm>
                  <a:off x="1965240" y="304272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5" name="图片 54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163440" y="3349440"/>
              <a:ext cx="711720" cy="759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4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3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6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1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170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175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8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0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1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2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3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8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34"/>
          <p:cNvSpPr/>
          <p:nvPr/>
        </p:nvSpPr>
        <p:spPr>
          <a:xfrm>
            <a:off x="2130480" y="4638600"/>
            <a:ext cx="43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答：女生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人，男生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3"/>
          <p:cNvSpPr/>
          <p:nvPr/>
        </p:nvSpPr>
        <p:spPr>
          <a:xfrm>
            <a:off x="441360" y="2216160"/>
            <a:ext cx="355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组合 26"/>
          <p:cNvGrpSpPr/>
          <p:nvPr/>
        </p:nvGrpSpPr>
        <p:grpSpPr>
          <a:xfrm>
            <a:off x="1835280" y="2879640"/>
            <a:ext cx="4650840" cy="1100160"/>
            <a:chOff x="1835280" y="2879640"/>
            <a:chExt cx="4650840" cy="1100160"/>
          </a:xfrm>
        </p:grpSpPr>
        <p:sp>
          <p:nvSpPr>
            <p:cNvPr id="1192" name="AutoShape 27"/>
            <p:cNvSpPr/>
            <p:nvPr/>
          </p:nvSpPr>
          <p:spPr>
            <a:xfrm>
              <a:off x="3188520" y="3193200"/>
              <a:ext cx="3297600" cy="786600"/>
            </a:xfrm>
            <a:prstGeom prst="wedgeRoundRectCallout">
              <a:avLst>
                <a:gd name="adj1" fmla="val -59050"/>
                <a:gd name="adj2" fmla="val 64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顾一下解答的过程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图片 2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1835280" y="2879640"/>
              <a:ext cx="1029600" cy="109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1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197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05" name="图片 1" descr="4Z~%V`6UV3@(]5R(OR%R4_P"/>
          <p:cNvPicPr/>
          <p:nvPr/>
        </p:nvPicPr>
        <p:blipFill>
          <a:blip r:embed="rId8"/>
          <a:stretch/>
        </p:blipFill>
        <p:spPr>
          <a:xfrm>
            <a:off x="1913040" y="4581360"/>
            <a:ext cx="612720" cy="781200"/>
          </a:xfrm>
          <a:prstGeom prst="rect">
            <a:avLst/>
          </a:prstGeom>
          <a:ln w="0">
            <a:noFill/>
          </a:ln>
        </p:spPr>
      </p:pic>
      <p:pic>
        <p:nvPicPr>
          <p:cNvPr id="1206" name="图片 10" descr="P4S}E{(YGGLVBE[WMP7%{BW"/>
          <p:cNvPicPr/>
          <p:nvPr/>
        </p:nvPicPr>
        <p:blipFill>
          <a:blip r:embed="rId9"/>
          <a:stretch/>
        </p:blipFill>
        <p:spPr>
          <a:xfrm>
            <a:off x="1297080" y="3019320"/>
            <a:ext cx="711000" cy="819360"/>
          </a:xfrm>
          <a:prstGeom prst="rect">
            <a:avLst/>
          </a:prstGeom>
          <a:ln w="0">
            <a:noFill/>
          </a:ln>
        </p:spPr>
      </p:pic>
      <p:pic>
        <p:nvPicPr>
          <p:cNvPr id="1207" name="图片 11" descr="UGE[@M(`G)F~ZV(DFDAJ)RI"/>
          <p:cNvPicPr/>
          <p:nvPr/>
        </p:nvPicPr>
        <p:blipFill>
          <a:blip r:embed="rId10"/>
          <a:stretch/>
        </p:blipFill>
        <p:spPr>
          <a:xfrm>
            <a:off x="1392120" y="4543560"/>
            <a:ext cx="522360" cy="857160"/>
          </a:xfrm>
          <a:prstGeom prst="rect">
            <a:avLst/>
          </a:prstGeom>
          <a:ln w="0">
            <a:noFill/>
          </a:ln>
        </p:spPr>
      </p:pic>
      <p:pic>
        <p:nvPicPr>
          <p:cNvPr id="1208" name="图片 12" descr="@U`VTNY}65Q8]8}QQFDFMMX"/>
          <p:cNvPicPr/>
          <p:nvPr/>
        </p:nvPicPr>
        <p:blipFill>
          <a:blip r:embed="rId11"/>
          <a:stretch/>
        </p:blipFill>
        <p:spPr>
          <a:xfrm>
            <a:off x="2460600" y="4581360"/>
            <a:ext cx="563760" cy="746280"/>
          </a:xfrm>
          <a:prstGeom prst="rect">
            <a:avLst/>
          </a:prstGeom>
          <a:ln w="0">
            <a:noFill/>
          </a:ln>
        </p:spPr>
      </p:pic>
      <p:pic>
        <p:nvPicPr>
          <p:cNvPr id="1209" name="图片 13" descr="6SYTQBS`}M7{613A~7I@897"/>
          <p:cNvPicPr/>
          <p:nvPr/>
        </p:nvPicPr>
        <p:blipFill>
          <a:blip r:embed="rId12"/>
          <a:stretch/>
        </p:blipFill>
        <p:spPr>
          <a:xfrm>
            <a:off x="3024360" y="4540320"/>
            <a:ext cx="657000" cy="942840"/>
          </a:xfrm>
          <a:prstGeom prst="rect">
            <a:avLst/>
          </a:prstGeom>
          <a:ln w="0">
            <a:noFill/>
          </a:ln>
        </p:spPr>
      </p:pic>
      <p:sp>
        <p:nvSpPr>
          <p:cNvPr id="1210" name="文本框 14"/>
          <p:cNvSpPr/>
          <p:nvPr/>
        </p:nvSpPr>
        <p:spPr>
          <a:xfrm>
            <a:off x="301680" y="687240"/>
            <a:ext cx="14731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填空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15"/>
          <p:cNvSpPr/>
          <p:nvPr/>
        </p:nvSpPr>
        <p:spPr>
          <a:xfrm>
            <a:off x="447840" y="1603440"/>
            <a:ext cx="1168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6"/>
          <p:cNvSpPr/>
          <p:nvPr/>
        </p:nvSpPr>
        <p:spPr>
          <a:xfrm>
            <a:off x="387360" y="3089160"/>
            <a:ext cx="1168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17"/>
          <p:cNvSpPr/>
          <p:nvPr/>
        </p:nvSpPr>
        <p:spPr>
          <a:xfrm>
            <a:off x="387360" y="4581360"/>
            <a:ext cx="11685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图片 18" descr="JAA{84$40O(]~GCOKSW[HFQ"/>
          <p:cNvPicPr/>
          <p:nvPr/>
        </p:nvPicPr>
        <p:blipFill>
          <a:blip r:embed="rId13"/>
          <a:stretch/>
        </p:blipFill>
        <p:spPr>
          <a:xfrm>
            <a:off x="1370160" y="1816200"/>
            <a:ext cx="566640" cy="466560"/>
          </a:xfrm>
          <a:prstGeom prst="rect">
            <a:avLst/>
          </a:prstGeom>
          <a:ln w="0">
            <a:noFill/>
          </a:ln>
        </p:spPr>
      </p:pic>
      <p:pic>
        <p:nvPicPr>
          <p:cNvPr id="1215" name="图片 19" descr="JAA{84$40O(]~GCOKSW[HFQ"/>
          <p:cNvPicPr/>
          <p:nvPr/>
        </p:nvPicPr>
        <p:blipFill>
          <a:blip r:embed="rId14"/>
          <a:stretch/>
        </p:blipFill>
        <p:spPr>
          <a:xfrm>
            <a:off x="1936800" y="1779480"/>
            <a:ext cx="565200" cy="468360"/>
          </a:xfrm>
          <a:prstGeom prst="rect">
            <a:avLst/>
          </a:prstGeom>
          <a:ln w="0">
            <a:noFill/>
          </a:ln>
        </p:spPr>
      </p:pic>
      <p:pic>
        <p:nvPicPr>
          <p:cNvPr id="1216" name="图片 20" descr="JAA{84$40O(]~GCOKSW[HFQ"/>
          <p:cNvPicPr/>
          <p:nvPr/>
        </p:nvPicPr>
        <p:blipFill>
          <a:blip r:embed="rId15"/>
          <a:stretch/>
        </p:blipFill>
        <p:spPr>
          <a:xfrm>
            <a:off x="2502000" y="1779480"/>
            <a:ext cx="566640" cy="468360"/>
          </a:xfrm>
          <a:prstGeom prst="rect">
            <a:avLst/>
          </a:prstGeom>
          <a:ln w="0">
            <a:noFill/>
          </a:ln>
        </p:spPr>
      </p:pic>
      <p:pic>
        <p:nvPicPr>
          <p:cNvPr id="1217" name="图片 21" descr="JAA{84$40O(]~GCOKSW[HFQ"/>
          <p:cNvPicPr/>
          <p:nvPr/>
        </p:nvPicPr>
        <p:blipFill>
          <a:blip r:embed="rId16"/>
          <a:stretch/>
        </p:blipFill>
        <p:spPr>
          <a:xfrm>
            <a:off x="3068640" y="1779480"/>
            <a:ext cx="566640" cy="468360"/>
          </a:xfrm>
          <a:prstGeom prst="rect">
            <a:avLst/>
          </a:prstGeom>
          <a:ln w="0">
            <a:noFill/>
          </a:ln>
        </p:spPr>
      </p:pic>
      <p:pic>
        <p:nvPicPr>
          <p:cNvPr id="1218" name="图片 22" descr="JAA{84$40O(]~GCOKSW[HFQ"/>
          <p:cNvPicPr/>
          <p:nvPr/>
        </p:nvPicPr>
        <p:blipFill>
          <a:blip r:embed="rId17"/>
          <a:stretch/>
        </p:blipFill>
        <p:spPr>
          <a:xfrm>
            <a:off x="3635280" y="1779480"/>
            <a:ext cx="567000" cy="468360"/>
          </a:xfrm>
          <a:prstGeom prst="rect">
            <a:avLst/>
          </a:prstGeom>
          <a:ln w="0">
            <a:noFill/>
          </a:ln>
        </p:spPr>
      </p:pic>
      <p:sp>
        <p:nvSpPr>
          <p:cNvPr id="1219" name="文本框 23"/>
          <p:cNvSpPr/>
          <p:nvPr/>
        </p:nvSpPr>
        <p:spPr>
          <a:xfrm>
            <a:off x="4287960" y="1717560"/>
            <a:ext cx="1455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它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组合 32"/>
          <p:cNvGrpSpPr/>
          <p:nvPr/>
        </p:nvGrpSpPr>
        <p:grpSpPr>
          <a:xfrm>
            <a:off x="5370480" y="1603440"/>
            <a:ext cx="623880" cy="821160"/>
            <a:chOff x="5370480" y="1603440"/>
            <a:chExt cx="623880" cy="821160"/>
          </a:xfrm>
        </p:grpSpPr>
        <p:sp>
          <p:nvSpPr>
            <p:cNvPr id="1221" name="Text Box 54"/>
            <p:cNvSpPr/>
            <p:nvPr/>
          </p:nvSpPr>
          <p:spPr>
            <a:xfrm>
              <a:off x="5370480" y="16034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55"/>
            <p:cNvSpPr/>
            <p:nvPr/>
          </p:nvSpPr>
          <p:spPr>
            <a:xfrm>
              <a:off x="5370480" y="2056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5543280" y="2071080"/>
              <a:ext cx="276840" cy="360"/>
              <a:chOff x="5543280" y="2071080"/>
              <a:chExt cx="276840" cy="360"/>
            </a:xfrm>
          </p:grpSpPr>
          <p:sp>
            <p:nvSpPr>
              <p:cNvPr id="1224" name="Line 56"/>
              <p:cNvSpPr/>
              <p:nvPr/>
            </p:nvSpPr>
            <p:spPr>
              <a:xfrm>
                <a:off x="5543280" y="207108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 txBox="1"/>
              <p:nvPr/>
            </p:nvSpPr>
            <p:spPr>
              <a:xfrm>
                <a:off x="5543280" y="20710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6" name="文本框 24"/>
          <p:cNvSpPr/>
          <p:nvPr/>
        </p:nvSpPr>
        <p:spPr>
          <a:xfrm>
            <a:off x="5918040" y="1765440"/>
            <a:ext cx="2254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（  ）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图片 26" descr="P4S}E{(YGGLVBE[WMP7%{BW"/>
          <p:cNvPicPr/>
          <p:nvPr/>
        </p:nvPicPr>
        <p:blipFill>
          <a:blip r:embed="rId18"/>
          <a:stretch/>
        </p:blipFill>
        <p:spPr>
          <a:xfrm>
            <a:off x="1889280" y="3019320"/>
            <a:ext cx="711000" cy="819360"/>
          </a:xfrm>
          <a:prstGeom prst="rect">
            <a:avLst/>
          </a:prstGeom>
          <a:ln w="0">
            <a:noFill/>
          </a:ln>
        </p:spPr>
      </p:pic>
      <p:pic>
        <p:nvPicPr>
          <p:cNvPr id="1228" name="图片 27" descr="P4S}E{(YGGLVBE[WMP7%{BW"/>
          <p:cNvPicPr/>
          <p:nvPr/>
        </p:nvPicPr>
        <p:blipFill>
          <a:blip r:embed="rId19"/>
          <a:stretch/>
        </p:blipFill>
        <p:spPr>
          <a:xfrm>
            <a:off x="2506680" y="3019320"/>
            <a:ext cx="711360" cy="819360"/>
          </a:xfrm>
          <a:prstGeom prst="rect">
            <a:avLst/>
          </a:prstGeom>
          <a:ln w="0">
            <a:noFill/>
          </a:ln>
        </p:spPr>
      </p:pic>
      <p:pic>
        <p:nvPicPr>
          <p:cNvPr id="1229" name="图片 28" descr="P4S}E{(YGGLVBE[WMP7%{BW"/>
          <p:cNvPicPr/>
          <p:nvPr/>
        </p:nvPicPr>
        <p:blipFill>
          <a:blip r:embed="rId20"/>
          <a:stretch/>
        </p:blipFill>
        <p:spPr>
          <a:xfrm>
            <a:off x="3068640" y="3017880"/>
            <a:ext cx="711360" cy="819000"/>
          </a:xfrm>
          <a:prstGeom prst="rect">
            <a:avLst/>
          </a:prstGeom>
          <a:ln w="0">
            <a:noFill/>
          </a:ln>
        </p:spPr>
      </p:pic>
      <p:pic>
        <p:nvPicPr>
          <p:cNvPr id="1230" name="图片 29" descr="P4S}E{(YGGLVBE[WMP7%{BW"/>
          <p:cNvPicPr/>
          <p:nvPr/>
        </p:nvPicPr>
        <p:blipFill>
          <a:blip r:embed="rId21"/>
          <a:stretch/>
        </p:blipFill>
        <p:spPr>
          <a:xfrm>
            <a:off x="3679920" y="3019320"/>
            <a:ext cx="711000" cy="819360"/>
          </a:xfrm>
          <a:prstGeom prst="rect">
            <a:avLst/>
          </a:prstGeom>
          <a:ln w="0">
            <a:noFill/>
          </a:ln>
        </p:spPr>
      </p:pic>
      <p:pic>
        <p:nvPicPr>
          <p:cNvPr id="1231" name="图片 31" descr="P4S}E{(YGGLVBE[WMP7%{BW"/>
          <p:cNvPicPr/>
          <p:nvPr/>
        </p:nvPicPr>
        <p:blipFill>
          <a:blip r:embed="rId22"/>
          <a:stretch/>
        </p:blipFill>
        <p:spPr>
          <a:xfrm>
            <a:off x="4287960" y="3019320"/>
            <a:ext cx="711000" cy="819360"/>
          </a:xfrm>
          <a:prstGeom prst="rect">
            <a:avLst/>
          </a:prstGeom>
          <a:ln w="0">
            <a:noFill/>
          </a:ln>
        </p:spPr>
      </p:pic>
      <p:sp>
        <p:nvSpPr>
          <p:cNvPr id="1232" name="文本框 33"/>
          <p:cNvSpPr/>
          <p:nvPr/>
        </p:nvSpPr>
        <p:spPr>
          <a:xfrm>
            <a:off x="4952880" y="3316320"/>
            <a:ext cx="14558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它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组合 32"/>
          <p:cNvGrpSpPr/>
          <p:nvPr/>
        </p:nvGrpSpPr>
        <p:grpSpPr>
          <a:xfrm>
            <a:off x="5918040" y="3154320"/>
            <a:ext cx="623880" cy="820440"/>
            <a:chOff x="5918040" y="3154320"/>
            <a:chExt cx="623880" cy="820440"/>
          </a:xfrm>
        </p:grpSpPr>
        <p:sp>
          <p:nvSpPr>
            <p:cNvPr id="1234" name="Text Box 54"/>
            <p:cNvSpPr/>
            <p:nvPr/>
          </p:nvSpPr>
          <p:spPr>
            <a:xfrm>
              <a:off x="5918040" y="3154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55"/>
            <p:cNvSpPr/>
            <p:nvPr/>
          </p:nvSpPr>
          <p:spPr>
            <a:xfrm>
              <a:off x="5918040" y="36064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6090840" y="3621240"/>
              <a:ext cx="276840" cy="360"/>
              <a:chOff x="6090840" y="3621240"/>
              <a:chExt cx="276840" cy="360"/>
            </a:xfrm>
          </p:grpSpPr>
          <p:sp>
            <p:nvSpPr>
              <p:cNvPr id="1237" name="Line 56"/>
              <p:cNvSpPr/>
              <p:nvPr/>
            </p:nvSpPr>
            <p:spPr>
              <a:xfrm>
                <a:off x="6090840" y="36212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6090840" y="36212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9" name="文本框 38"/>
          <p:cNvSpPr/>
          <p:nvPr/>
        </p:nvSpPr>
        <p:spPr>
          <a:xfrm>
            <a:off x="6408720" y="3355920"/>
            <a:ext cx="2252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（  ）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39"/>
          <p:cNvSpPr/>
          <p:nvPr/>
        </p:nvSpPr>
        <p:spPr>
          <a:xfrm>
            <a:off x="3844800" y="4842000"/>
            <a:ext cx="14544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组合 32"/>
          <p:cNvGrpSpPr/>
          <p:nvPr/>
        </p:nvGrpSpPr>
        <p:grpSpPr>
          <a:xfrm>
            <a:off x="4746600" y="4695840"/>
            <a:ext cx="623880" cy="820440"/>
            <a:chOff x="4746600" y="4695840"/>
            <a:chExt cx="623880" cy="820440"/>
          </a:xfrm>
        </p:grpSpPr>
        <p:sp>
          <p:nvSpPr>
            <p:cNvPr id="1242" name="Text Box 54"/>
            <p:cNvSpPr/>
            <p:nvPr/>
          </p:nvSpPr>
          <p:spPr>
            <a:xfrm>
              <a:off x="4746600" y="4695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55"/>
            <p:cNvSpPr/>
            <p:nvPr/>
          </p:nvSpPr>
          <p:spPr>
            <a:xfrm>
              <a:off x="4746600" y="5148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4919400" y="5162760"/>
              <a:ext cx="276840" cy="360"/>
              <a:chOff x="4919400" y="5162760"/>
              <a:chExt cx="276840" cy="360"/>
            </a:xfrm>
          </p:grpSpPr>
          <p:sp>
            <p:nvSpPr>
              <p:cNvPr id="1245" name="Line 56"/>
              <p:cNvSpPr/>
              <p:nvPr/>
            </p:nvSpPr>
            <p:spPr>
              <a:xfrm>
                <a:off x="4919400" y="516276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 txBox="1"/>
              <p:nvPr/>
            </p:nvSpPr>
            <p:spPr>
              <a:xfrm>
                <a:off x="4919400" y="51627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7" name="文本框 44"/>
          <p:cNvSpPr/>
          <p:nvPr/>
        </p:nvSpPr>
        <p:spPr>
          <a:xfrm>
            <a:off x="5299200" y="4826160"/>
            <a:ext cx="2253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（  ）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45"/>
          <p:cNvSpPr/>
          <p:nvPr/>
        </p:nvSpPr>
        <p:spPr>
          <a:xfrm>
            <a:off x="6541920" y="1725480"/>
            <a:ext cx="70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46"/>
          <p:cNvSpPr/>
          <p:nvPr/>
        </p:nvSpPr>
        <p:spPr>
          <a:xfrm>
            <a:off x="7066080" y="3308400"/>
            <a:ext cx="70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47"/>
          <p:cNvSpPr/>
          <p:nvPr/>
        </p:nvSpPr>
        <p:spPr>
          <a:xfrm>
            <a:off x="5994360" y="4826160"/>
            <a:ext cx="709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2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3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254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6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8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0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1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2" name="文本框 1"/>
          <p:cNvSpPr/>
          <p:nvPr/>
        </p:nvSpPr>
        <p:spPr>
          <a:xfrm>
            <a:off x="349200" y="1020600"/>
            <a:ext cx="83282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蘑菇平均分给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只小兔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只小兔共分得这些蘑菇的几分之几？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只小兔共分到几个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组合 32"/>
          <p:cNvGrpSpPr/>
          <p:nvPr/>
        </p:nvGrpSpPr>
        <p:grpSpPr>
          <a:xfrm>
            <a:off x="4572000" y="4597560"/>
            <a:ext cx="623880" cy="821160"/>
            <a:chOff x="4572000" y="4597560"/>
            <a:chExt cx="623880" cy="821160"/>
          </a:xfrm>
        </p:grpSpPr>
        <p:sp>
          <p:nvSpPr>
            <p:cNvPr id="1264" name="Text Box 54"/>
            <p:cNvSpPr/>
            <p:nvPr/>
          </p:nvSpPr>
          <p:spPr>
            <a:xfrm>
              <a:off x="4572000" y="45975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55"/>
            <p:cNvSpPr/>
            <p:nvPr/>
          </p:nvSpPr>
          <p:spPr>
            <a:xfrm>
              <a:off x="4572000" y="50504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4744800" y="5065200"/>
              <a:ext cx="276840" cy="360"/>
              <a:chOff x="4744800" y="5065200"/>
              <a:chExt cx="276840" cy="360"/>
            </a:xfrm>
          </p:grpSpPr>
          <p:sp>
            <p:nvSpPr>
              <p:cNvPr id="1267" name="Line 56"/>
              <p:cNvSpPr/>
              <p:nvPr/>
            </p:nvSpPr>
            <p:spPr>
              <a:xfrm>
                <a:off x="4744800" y="506520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>
                <a:off x="4744800" y="50652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9" name="文本框 10"/>
          <p:cNvSpPr/>
          <p:nvPr/>
        </p:nvSpPr>
        <p:spPr>
          <a:xfrm>
            <a:off x="2954160" y="2793960"/>
            <a:ext cx="224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=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11"/>
          <p:cNvSpPr/>
          <p:nvPr/>
        </p:nvSpPr>
        <p:spPr>
          <a:xfrm>
            <a:off x="2954160" y="3686040"/>
            <a:ext cx="224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=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12"/>
          <p:cNvSpPr/>
          <p:nvPr/>
        </p:nvSpPr>
        <p:spPr>
          <a:xfrm>
            <a:off x="411120" y="4329000"/>
            <a:ext cx="8204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只小兔共分得这些蘑菇的     ；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只小兔共分到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27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4" name="组合 4"/>
            <p:cNvGrpSpPr/>
            <p:nvPr/>
          </p:nvGrpSpPr>
          <p:grpSpPr>
            <a:xfrm>
              <a:off x="22320" y="161640"/>
              <a:ext cx="429840" cy="273600"/>
              <a:chOff x="22320" y="161640"/>
              <a:chExt cx="429840" cy="273600"/>
            </a:xfrm>
          </p:grpSpPr>
          <p:sp>
            <p:nvSpPr>
              <p:cNvPr id="1275" name="椭圆 2"/>
              <p:cNvSpPr/>
              <p:nvPr/>
            </p:nvSpPr>
            <p:spPr>
              <a:xfrm rot="16200000">
                <a:off x="264960" y="3258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椭圆 4"/>
              <p:cNvSpPr/>
              <p:nvPr/>
            </p:nvSpPr>
            <p:spPr>
              <a:xfrm rot="16200000">
                <a:off x="264960" y="1990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0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528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897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1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3" name="文本框 1"/>
          <p:cNvSpPr/>
          <p:nvPr/>
        </p:nvSpPr>
        <p:spPr>
          <a:xfrm>
            <a:off x="2327400" y="1095480"/>
            <a:ext cx="4690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求一个数的几分之几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3"/>
          <p:cNvSpPr/>
          <p:nvPr/>
        </p:nvSpPr>
        <p:spPr>
          <a:xfrm>
            <a:off x="201600" y="1968480"/>
            <a:ext cx="808992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求一个数的几分之几是多少，先看清分母是几，就把这个数平均分成几份，再看分子是几，就求几份是多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40:27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